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D1049-97A6-41A3-A53D-DB1236A3FDB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26E04-58A6-4452-94EC-FCDED354E3E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5D885-EDD6-4491-91F7-E49E6BB39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4377B-D153-470D-A7D6-91F29B41F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909E3-6C38-4A16-B5DB-29113D0BC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49FC2-8811-4C86-BEA1-7D3B1FB82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1C5F8-8E41-42DB-AE61-8B6270F12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24CFA-1639-40AD-9FBF-ED7D7194A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651D6-B628-47CE-87D3-499E5CEB7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D861E-31CD-47C9-BC3B-AE91766D5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C13BB-A570-42AC-931F-F9C31BB4B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54F65-8955-43D7-A2AC-65D31EE19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542D0-2599-454C-835C-E3AD9470C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F651F-B199-45A9-9C6B-5FFD504C5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3882F-5B26-499E-8627-57329E732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E0696-C2D8-4895-B683-6F5ED01B6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473C0-966F-44D8-9D7F-924F1D3DB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0B1F2-BDAC-45C8-8CA6-9F89BF354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5A444-9FA2-455D-A5A4-20B876D74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D7DA9-FBF2-4EBC-BC88-7A9FD6ADC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E4425-C9C4-4180-AAE2-58953838D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FBCFC-F782-4F3D-8A9F-1382EC54C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8B36D-F22E-4EFB-AD59-D7AD514EC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6B970-FDEA-4D4F-BE8A-EBDF25E5E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B850C-75A4-422D-BEB6-8B2BB5A8B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F4153-830B-4AD3-8E50-C03D3A3A2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E4C10-5036-475B-B13A-33EA3223C610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3EAA8-E6F2-4BE5-8FD2-765EA3911802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wmf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16"/>
          <p:cNvSpPr/>
          <p:nvPr/>
        </p:nvSpPr>
        <p:spPr>
          <a:xfrm>
            <a:off x="250920" y="1890000"/>
            <a:ext cx="8893080" cy="411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3300"/>
                </a:solidFill>
                <a:latin typeface="Times New Roman"/>
              </a:rPr>
              <a:t>Программа сплошного наблюдения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3300"/>
                </a:solidFill>
                <a:latin typeface="Times New Roman"/>
              </a:rPr>
              <a:t>субъектов малого и среднего предпринимательства,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используемы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татинструментарий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7"/>
          <p:cNvSpPr/>
          <p:nvPr/>
        </p:nvSpPr>
        <p:spPr>
          <a:xfrm>
            <a:off x="6930360" y="6184800"/>
            <a:ext cx="220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Л.В.Прозор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18" descr="Эмблемапереписькрайняя"/>
          <p:cNvPicPr/>
          <p:nvPr/>
        </p:nvPicPr>
        <p:blipFill>
          <a:blip r:embed="rId2">
            <a:lum contrast="-20000"/>
          </a:blip>
          <a:stretch/>
        </p:blipFill>
        <p:spPr>
          <a:xfrm>
            <a:off x="7956720" y="189000"/>
            <a:ext cx="1042920" cy="9810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20" descr="head2_3"/>
          <p:cNvPicPr/>
          <p:nvPr/>
        </p:nvPicPr>
        <p:blipFill>
          <a:blip r:embed="rId3"/>
          <a:stretch/>
        </p:blipFill>
        <p:spPr>
          <a:xfrm>
            <a:off x="108000" y="404640"/>
            <a:ext cx="1081080" cy="8528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4" descr="PE01561_"/>
          <p:cNvPicPr/>
          <p:nvPr/>
        </p:nvPicPr>
        <p:blipFill>
          <a:blip r:embed="rId4"/>
          <a:stretch/>
        </p:blipFill>
        <p:spPr>
          <a:xfrm>
            <a:off x="684360" y="4508640"/>
            <a:ext cx="2057400" cy="18288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43" descr="Эмблемапереписькрайняя"/>
          <p:cNvPicPr/>
          <p:nvPr/>
        </p:nvPicPr>
        <p:blipFill>
          <a:blip r:embed="rId5">
            <a:lum contrast="-20000"/>
          </a:blip>
          <a:stretch/>
        </p:blipFill>
        <p:spPr>
          <a:xfrm>
            <a:off x="7956720" y="189000"/>
            <a:ext cx="1042920" cy="9810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44" descr="Эмблемапереписькрайняя"/>
          <p:cNvPicPr/>
          <p:nvPr/>
        </p:nvPicPr>
        <p:blipFill>
          <a:blip r:embed="rId6">
            <a:lum contrast="-20000"/>
          </a:blip>
          <a:stretch/>
        </p:blipFill>
        <p:spPr>
          <a:xfrm>
            <a:off x="7956720" y="189000"/>
            <a:ext cx="104292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Показатели по всей совокупности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TextBox 2"/>
          <p:cNvSpPr/>
          <p:nvPr/>
        </p:nvSpPr>
        <p:spPr>
          <a:xfrm>
            <a:off x="571680" y="1785960"/>
            <a:ext cx="8001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личество действующих предприят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. Объем выручки) от продажи товаров, продукции, работ, услу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 .Платные услуги населени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. Производство  важнейших видов промышленной и сельхозпродук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5. Количество грузоперевозящих автомоби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6. Количество пассажирских автобусов (включая микроавтобусы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7. Коммерческий грузооборо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8. Коммерческий пассажирооборот на маршрутах общего пользова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9. Численность работни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0. Инвестиции в основной капита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1. Собственные основные средства по стоимости приобретения с учетом ее изменения без вычета износа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2. Площадь помещений, используемых для осуществления предпринимательской деятельнос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Показатели по совокупности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юридических лиц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TextBox 2"/>
          <p:cNvSpPr/>
          <p:nvPr/>
        </p:nvSpPr>
        <p:spPr>
          <a:xfrm>
            <a:off x="642960" y="1500120"/>
            <a:ext cx="80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Дополнительно к предыдущей системе показате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3"/>
          <p:cNvSpPr/>
          <p:nvPr/>
        </p:nvSpPr>
        <p:spPr>
          <a:xfrm>
            <a:off x="664200" y="1928880"/>
            <a:ext cx="8507880" cy="42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13. Распределение предприятий по дате начала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хозяйственной  деятельности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14.Уставный капитал и его структура по учредителям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15. Количество работников списочного состава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16. Фонд начисленной заработной платы всех работников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17. Средняя продолжительность рабочей недели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18. Отдельные виды затрат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19. Полная учетная стоимость земли и объектов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природопользования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20. Наличие инновационной деятельности   (количество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предприятий  имеющие технологические, инновационные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и организационные инновации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21. Отдельные показатели, необходимые для  макрорасчета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Основной вид экономической  деятельности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Arial"/>
              </a:rPr>
              <a:t>На основании полученной информации рассчитывается ОВД предприят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ВД определяетс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ля всех типов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хозяйствующих субъектов (юр.лица и ИП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етодом «сверху-вниз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 основе показателя «выручка» по видам эк. деятельности (по торговле - торговой наценк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Установление типа предприятия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00040" y="1356840"/>
            <a:ext cx="803448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На основании полученной информ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определяется тип – микро, малое, среднее, крупное предприят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3333ff"/>
                </a:solidFill>
                <a:latin typeface="Arial"/>
              </a:rPr>
              <a:t>по юридическим лиц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- Структура УК по учредителя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- Средняя численность работников 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010 и 2009г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- Выручка  за 2010 и 2009г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ff"/>
                </a:solidFill>
                <a:latin typeface="Arial"/>
              </a:rPr>
              <a:t>по индивидуальным предпринимателя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-- выручка за 2010 и 2009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-- число работающих в бизнесе за 2010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Формирование сводных итогов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642600" y="1499760"/>
            <a:ext cx="792468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По типам хозяйствующих субъектов  (малы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(без микро), микро и средние предприят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о ИП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– на основе типизации по итогам сплошного наблюд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По юридическим лиц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 соответствии с типизацией в ГС на конец 2010г. (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 соответствии с типизацией по итогам сплошного наблюдения на основании (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Блок-схема: сопоставление 3"/>
          <p:cNvSpPr/>
          <p:nvPr/>
        </p:nvSpPr>
        <p:spPr>
          <a:xfrm>
            <a:off x="285840" y="4000680"/>
            <a:ext cx="457200" cy="914400"/>
          </a:xfrm>
          <a:prstGeom prst="flowChartCollat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Агрегация показателей 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(продолжение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09120" y="1600200"/>
            <a:ext cx="853452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По ОКВЭД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 хозяйственным видам экономической деятельнос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 «чистым» видам экономической деятельнос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по муниципальным районам и городским округам, внутригородским территориям городов федерального знач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 «грязной»территор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 «чистой» территор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По ОКФС (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ля юр.лиц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ОКОПФ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для юр.лиц и для ИП - выделение фермеров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Агрегация показателей 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(продолжение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609120" y="1600200"/>
            <a:ext cx="853452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 размеру предприят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соответствии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еждународными стандартам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обходима публикация показателей в разрез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руппировок предприятий по числу занятых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0, 1, 2- 4, 5-9, 10-19, 20-49, 50-99,100-249, 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чел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грамма сплошного наблюдения предусматривает разработку группировок предприятий с учетом российских особенност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WordArt 4"/>
          <p:cNvSpPr txBox="1"/>
          <p:nvPr/>
        </p:nvSpPr>
        <p:spPr>
          <a:xfrm>
            <a:off x="1692360" y="5661000"/>
            <a:ext cx="51444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1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81" name="WordArt 5"/>
          <p:cNvSpPr txBox="1"/>
          <p:nvPr/>
        </p:nvSpPr>
        <p:spPr>
          <a:xfrm>
            <a:off x="3564000" y="5516640"/>
            <a:ext cx="66672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99">
                    <a:alpha val="60000"/>
                  </a:srgbClr>
                </a:solidFill>
                <a:latin typeface="Impact"/>
              </a:rPr>
              <a:t>100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c99">
                  <a:alpha val="60000"/>
                </a:srgbClr>
              </a:solidFill>
              <a:latin typeface="Impact"/>
              <a:ea typeface="Impact"/>
            </a:endParaRPr>
          </a:p>
        </p:txBody>
      </p:sp>
      <p:sp>
        <p:nvSpPr>
          <p:cNvPr id="182" name="WordArt 6"/>
          <p:cNvSpPr txBox="1"/>
          <p:nvPr/>
        </p:nvSpPr>
        <p:spPr>
          <a:xfrm>
            <a:off x="5940360" y="5300640"/>
            <a:ext cx="72396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250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Программа наблюдения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09480" y="1599840"/>
            <a:ext cx="8066160" cy="4419720"/>
          </a:xfrm>
          <a:prstGeom prst="rect">
            <a:avLst/>
          </a:prstGeom>
          <a:noFill/>
          <a:ln w="9360">
            <a:solidFill>
              <a:srgbClr val="95dbb5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грамма наблюдени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ссмотрена 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Совете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 вопросам совершенствова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татистического наблюдения за деятельностью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алого и среднего  предпринимательства 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оссийской Федерации при Росстате в мае 2009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 привлечением большого круга 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общественны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организац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Утверждена Минэкономразвития России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в ноябре 2009г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6" descr="notes"/>
          <p:cNvPicPr/>
          <p:nvPr/>
        </p:nvPicPr>
        <p:blipFill>
          <a:blip r:embed="rId1"/>
          <a:stretch/>
        </p:blipFill>
        <p:spPr>
          <a:xfrm>
            <a:off x="7380360" y="5157720"/>
            <a:ext cx="1108080" cy="110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Основные принципы формирования программы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9360">
            <a:solidFill>
              <a:srgbClr val="95dbb5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омплекс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етализа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ифференциация для различных типов субъектов малого и среднего предпринимательства (МиСП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огласован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комплексность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Arial"/>
              </a:rPr>
              <a:t>Данные сплошного наблюдения должны представлять комплексную характеристику деятельности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МиС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4"/>
          <p:cNvSpPr/>
          <p:nvPr/>
        </p:nvSpPr>
        <p:spPr>
          <a:xfrm>
            <a:off x="971640" y="3500280"/>
            <a:ext cx="7416720" cy="0"/>
          </a:xfrm>
          <a:prstGeom prst="line">
            <a:avLst/>
          </a:prstGeom>
          <a:ln w="57240">
            <a:solidFill>
              <a:srgbClr val="66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5"/>
          <p:cNvSpPr/>
          <p:nvPr/>
        </p:nvSpPr>
        <p:spPr>
          <a:xfrm>
            <a:off x="611280" y="3716280"/>
            <a:ext cx="2808360" cy="6476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изводствен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еятель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7"/>
          <p:cNvSpPr/>
          <p:nvPr/>
        </p:nvSpPr>
        <p:spPr>
          <a:xfrm>
            <a:off x="1743120" y="56088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8"/>
          <p:cNvSpPr/>
          <p:nvPr/>
        </p:nvSpPr>
        <p:spPr>
          <a:xfrm>
            <a:off x="1258920" y="4508640"/>
            <a:ext cx="2665440" cy="7696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нвестиционна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еятель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10"/>
          <p:cNvSpPr/>
          <p:nvPr/>
        </p:nvSpPr>
        <p:spPr>
          <a:xfrm>
            <a:off x="1928880" y="5373720"/>
            <a:ext cx="2427120" cy="71928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нновационна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еятель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12"/>
          <p:cNvSpPr/>
          <p:nvPr/>
        </p:nvSpPr>
        <p:spPr>
          <a:xfrm>
            <a:off x="4857840" y="4076640"/>
            <a:ext cx="3571920" cy="503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акторы производ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Oval 14"/>
          <p:cNvSpPr/>
          <p:nvPr/>
        </p:nvSpPr>
        <p:spPr>
          <a:xfrm>
            <a:off x="4500720" y="4724280"/>
            <a:ext cx="1584000" cy="14194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рудовы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сурс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Oval 16"/>
          <p:cNvSpPr/>
          <p:nvPr/>
        </p:nvSpPr>
        <p:spPr>
          <a:xfrm>
            <a:off x="6227640" y="4724280"/>
            <a:ext cx="1773360" cy="14194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сновны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ред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18"/>
          <p:cNvSpPr/>
          <p:nvPr/>
        </p:nvSpPr>
        <p:spPr>
          <a:xfrm flipH="1">
            <a:off x="5580000" y="4581360"/>
            <a:ext cx="50472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19"/>
          <p:cNvSpPr/>
          <p:nvPr/>
        </p:nvSpPr>
        <p:spPr>
          <a:xfrm>
            <a:off x="6084720" y="4581360"/>
            <a:ext cx="57492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Детализация отдельных показателей в формах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 видам экономической деятельности (по ОКВЭД 2007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) (выручк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 муниципальным образованиям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по муниципальным районам и городским округам, внутригородским территориям городов федерального значения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) (численность работников по ТОПам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 номенклатуре промышленной и сельскохозяйственной продукции (по ОКПД)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(производство продукци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 видам, оказываемых населению услуг (по ОКВЭД)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(выручк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 видам основных фондов (по ОКОПФ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)(наличие основных фондов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3640" y="404280"/>
            <a:ext cx="788652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Дифференциация программы для различных типов МиСП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чет правил ведения бухгалтерского и первичного уче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чет нагрузки на респонден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4"/>
          <p:cNvSpPr/>
          <p:nvPr/>
        </p:nvSpPr>
        <p:spPr>
          <a:xfrm>
            <a:off x="971640" y="3284640"/>
            <a:ext cx="73454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6"/>
          <p:cNvSpPr/>
          <p:nvPr/>
        </p:nvSpPr>
        <p:spPr>
          <a:xfrm>
            <a:off x="1332000" y="4508640"/>
            <a:ext cx="2089080" cy="792000"/>
          </a:xfrm>
          <a:prstGeom prst="flowChartMagneticDisk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лые предприят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7"/>
          <p:cNvSpPr/>
          <p:nvPr/>
        </p:nvSpPr>
        <p:spPr>
          <a:xfrm>
            <a:off x="1763640" y="5229360"/>
            <a:ext cx="1081080" cy="577800"/>
          </a:xfrm>
          <a:prstGeom prst="flowChartMagneticDisk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13"/>
          <p:cNvSpPr/>
          <p:nvPr/>
        </p:nvSpPr>
        <p:spPr>
          <a:xfrm>
            <a:off x="971640" y="3429000"/>
            <a:ext cx="2663640" cy="1152360"/>
          </a:xfrm>
          <a:prstGeom prst="flowChartMagneticDisk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редние предприят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22"/>
          <p:cNvSpPr/>
          <p:nvPr/>
        </p:nvSpPr>
        <p:spPr>
          <a:xfrm>
            <a:off x="1404360" y="551664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дивидуальны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дпринимате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23"/>
          <p:cNvSpPr/>
          <p:nvPr/>
        </p:nvSpPr>
        <p:spPr>
          <a:xfrm>
            <a:off x="4001400" y="3429000"/>
            <a:ext cx="328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вокупность </a:t>
            </a: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действующи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орм статотчет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24"/>
          <p:cNvSpPr/>
          <p:nvPr/>
        </p:nvSpPr>
        <p:spPr>
          <a:xfrm>
            <a:off x="3995640" y="4221000"/>
            <a:ext cx="446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ф. </a:t>
            </a: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№ МП-сп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«Сведения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 основ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ых показателях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ятельности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алог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едприятия за 2010 год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25"/>
          <p:cNvSpPr/>
          <p:nvPr/>
        </p:nvSpPr>
        <p:spPr>
          <a:xfrm>
            <a:off x="3635280" y="371628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26"/>
          <p:cNvSpPr/>
          <p:nvPr/>
        </p:nvSpPr>
        <p:spPr>
          <a:xfrm>
            <a:off x="3492360" y="4797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27"/>
          <p:cNvSpPr/>
          <p:nvPr/>
        </p:nvSpPr>
        <p:spPr>
          <a:xfrm>
            <a:off x="2916360" y="55166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28"/>
          <p:cNvSpPr/>
          <p:nvPr/>
        </p:nvSpPr>
        <p:spPr>
          <a:xfrm>
            <a:off x="3780000" y="5229360"/>
            <a:ext cx="446400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Ф. </a:t>
            </a: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№ 1-предприниматель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Свед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 деятельности индивидуального предпринимателя за 2010 год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23640" y="404280"/>
            <a:ext cx="788652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Согласованност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-1189080" y="1483920"/>
            <a:ext cx="950616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57400" indent="-22860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анные, полученные из различных форм статнаблюдения  будут согласованными, если они основаны на общих определениях, классификациях и методологических стандартах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огласованные данные позволят дать характеристику сектору МиСП по совокупности всех типов предприятий и его отдельных совокупност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5"/>
          <p:cNvSpPr/>
          <p:nvPr/>
        </p:nvSpPr>
        <p:spPr>
          <a:xfrm>
            <a:off x="2987640" y="4869000"/>
            <a:ext cx="2160720" cy="792000"/>
          </a:xfrm>
          <a:prstGeom prst="flowChartMagneticDisk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6"/>
          <p:cNvSpPr/>
          <p:nvPr/>
        </p:nvSpPr>
        <p:spPr>
          <a:xfrm>
            <a:off x="3419640" y="5661000"/>
            <a:ext cx="1081080" cy="432000"/>
          </a:xfrm>
          <a:prstGeom prst="flowChartMagneticDisk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7"/>
          <p:cNvSpPr/>
          <p:nvPr/>
        </p:nvSpPr>
        <p:spPr>
          <a:xfrm>
            <a:off x="5438520" y="4365720"/>
            <a:ext cx="3321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редние предприятия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алые предприятия – юридические лиц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9"/>
          <p:cNvSpPr/>
          <p:nvPr/>
        </p:nvSpPr>
        <p:spPr>
          <a:xfrm>
            <a:off x="5222160" y="5734080"/>
            <a:ext cx="2617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иСП – юридические лица и И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10"/>
          <p:cNvSpPr/>
          <p:nvPr/>
        </p:nvSpPr>
        <p:spPr>
          <a:xfrm>
            <a:off x="2627280" y="4076640"/>
            <a:ext cx="2664000" cy="1152720"/>
          </a:xfrm>
          <a:prstGeom prst="flowChartMagneticDisk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22"/>
          <p:cNvSpPr/>
          <p:nvPr/>
        </p:nvSpPr>
        <p:spPr>
          <a:xfrm>
            <a:off x="3132000" y="4149720"/>
            <a:ext cx="1871640" cy="14889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23"/>
          <p:cNvSpPr/>
          <p:nvPr/>
        </p:nvSpPr>
        <p:spPr>
          <a:xfrm flipH="1">
            <a:off x="4788000" y="465300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24"/>
          <p:cNvSpPr/>
          <p:nvPr/>
        </p:nvSpPr>
        <p:spPr>
          <a:xfrm>
            <a:off x="3419640" y="4149720"/>
            <a:ext cx="1081080" cy="192240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25"/>
          <p:cNvSpPr/>
          <p:nvPr/>
        </p:nvSpPr>
        <p:spPr>
          <a:xfrm flipH="1" flipV="1">
            <a:off x="4066920" y="5589720"/>
            <a:ext cx="108108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26"/>
          <p:cNvSpPr/>
          <p:nvPr/>
        </p:nvSpPr>
        <p:spPr>
          <a:xfrm>
            <a:off x="326520" y="4437000"/>
            <a:ext cx="243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ъем согласуем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казате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включая расчетны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Показатели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(производственная деятельность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09120" y="1600200"/>
            <a:ext cx="3746520" cy="35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МП-сп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ff3300"/>
                </a:solidFill>
                <a:uFillTx/>
                <a:latin typeface="Arial"/>
              </a:rPr>
              <a:t>В абсолютном выражен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ыручка от реализаци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товаров (работ, услуг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)(без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НДС и аналогич. платежей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сего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 т.ч. по видам экон. деятельности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тоимость работ и услуг, оплаченных население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оизводство пром. и сельхозпродукции в натуральном выражении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427640" y="1628280"/>
            <a:ext cx="4106880" cy="37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1-предпринимате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ff3300"/>
                </a:solidFill>
                <a:uFillTx/>
                <a:latin typeface="Arial"/>
              </a:rPr>
              <a:t>В абсолютном выражен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ыручка (с учетом налогов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 аналогич. платежей) от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одажи товаров, продукции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абот, услуг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(всего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оизводство пром. и сельхозпродукции в натуральном выражен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ff3300"/>
                </a:solidFill>
                <a:uFillTx/>
                <a:latin typeface="Arial"/>
              </a:rPr>
              <a:t>В процентном отношен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оля выручки по каждому виду экон. деятель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оля выручки, полученной от заказов насел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12"/>
          <p:cNvSpPr/>
          <p:nvPr/>
        </p:nvSpPr>
        <p:spPr>
          <a:xfrm>
            <a:off x="4572000" y="5300640"/>
            <a:ext cx="396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3"/>
          <p:cNvSpPr/>
          <p:nvPr/>
        </p:nvSpPr>
        <p:spPr>
          <a:xfrm>
            <a:off x="3284640" y="5229360"/>
            <a:ext cx="5859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Arial"/>
              </a:rPr>
              <a:t>На основании указанных процент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Arial"/>
              </a:rPr>
              <a:t>рассчитываются абсолютные знач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Arial"/>
              </a:rPr>
              <a:t>данных показателей по каждому И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14"/>
          <p:cNvSpPr/>
          <p:nvPr/>
        </p:nvSpPr>
        <p:spPr>
          <a:xfrm rot="5778600">
            <a:off x="8213040" y="4611600"/>
            <a:ext cx="573120" cy="655560"/>
          </a:xfrm>
          <a:custGeom>
            <a:avLst/>
            <a:gdLst>
              <a:gd name="textAreaLeft" fmla="*/ 329760 w 573120"/>
              <a:gd name="textAreaRight" fmla="*/ 483840 w 573120"/>
              <a:gd name="textAreaTop" fmla="*/ 88200 h 655560"/>
              <a:gd name="textAreaBottom" fmla="*/ 280440 h 65556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WordArt 15"/>
          <p:cNvSpPr txBox="1"/>
          <p:nvPr/>
        </p:nvSpPr>
        <p:spPr>
          <a:xfrm>
            <a:off x="684360" y="1413000"/>
            <a:ext cx="73720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9966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асчет показателей на микроуровне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9966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6" name="Text Box 9"/>
          <p:cNvSpPr/>
          <p:nvPr/>
        </p:nvSpPr>
        <p:spPr>
          <a:xfrm>
            <a:off x="2969280" y="1647720"/>
            <a:ext cx="96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Показатели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(факторы производства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WordArt 4"/>
          <p:cNvSpPr txBox="1"/>
          <p:nvPr/>
        </p:nvSpPr>
        <p:spPr>
          <a:xfrm>
            <a:off x="395280" y="1413000"/>
            <a:ext cx="820908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9966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асчет показателей на микроуровне 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9966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9" name="Rectangle 5"/>
          <p:cNvSpPr/>
          <p:nvPr/>
        </p:nvSpPr>
        <p:spPr>
          <a:xfrm>
            <a:off x="-345960" y="1996560"/>
            <a:ext cx="8878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личество отработанных человеко-часов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ботниками списочного состава предприятия за недел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6"/>
          <p:cNvSpPr/>
          <p:nvPr/>
        </p:nvSpPr>
        <p:spPr>
          <a:xfrm>
            <a:off x="468360" y="2584800"/>
            <a:ext cx="799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редняя численность работников * продолжительность рабочей (стр. 21)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дели одного работни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писочного состава (стр23)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WordArt 7"/>
          <p:cNvSpPr txBox="1"/>
          <p:nvPr/>
        </p:nvSpPr>
        <p:spPr>
          <a:xfrm>
            <a:off x="826920" y="3500280"/>
            <a:ext cx="7334280" cy="28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6666"/>
                  </a:solidFill>
                  <a:miter/>
                </a:ln>
                <a:solidFill>
                  <a:srgbClr val="99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асчет показателей на макроуровне</a:t>
            </a:r>
            <a:endParaRPr b="0" lang="en-US" sz="1800" spc="1" strike="noStrike">
              <a:ln w="19080">
                <a:solidFill>
                  <a:srgbClr val="996666"/>
                </a:solidFill>
                <a:miter/>
              </a:ln>
              <a:solidFill>
                <a:srgbClr val="99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571680" y="4006800"/>
            <a:ext cx="8043840" cy="224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должительность рабочей недели  одного работника списочного состава =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сумма данных (стр.23 * стр.21)  организаци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соответствующего вида экономической деятельност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России (субъекта РФ) 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сумма  данных стр. 21 гр.3  по соответствующему виду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экономической деятельности России (субъекта РФ)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8"/>
          <p:cNvSpPr/>
          <p:nvPr/>
        </p:nvSpPr>
        <p:spPr>
          <a:xfrm>
            <a:off x="3402000" y="1792440"/>
            <a:ext cx="97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рим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9T11:33:11Z</dcterms:created>
  <dc:creator>User</dc:creator>
  <dc:description/>
  <dc:language>en-US</dc:language>
  <cp:lastModifiedBy>Князев</cp:lastModifiedBy>
  <dcterms:modified xsi:type="dcterms:W3CDTF">2010-12-01T10:09:14Z</dcterms:modified>
  <cp:revision>80</cp:revision>
  <dc:subject/>
  <dc:title>Презентация PowerPoint</dc:title>
</cp:coreProperties>
</file>