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1.jpeg" ContentType="image/jpeg"/>
  <Override PartName="/ppt/media/image7.png" ContentType="image/png"/>
  <Override PartName="/ppt/media/image15.wmf" ContentType="image/x-wmf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8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9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1D05-EEFB-47E0-AD39-B0EDD841E6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8B9-598E-44BE-A6D8-47C512E141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готовка к проведению сплошного наблюдения с использованием разработанного ПО, начинается на региональном уровне с загрузки данны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атрегистра Росстата и других источников  и формировании на основе этих данных списков объектов сплошного наблюдения. Подготовленные списки респондентов дополнительно обрабатываются: каждому респонденту присваивается уникальный номер для автоматизированной обрабо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пользовавшись индивидуальным номером автоматизированной обработки как паролем, респондент сможет заполнить электронную версию отчетов, выложенную в Интерн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11F0-4C3B-49E9-B97F-D6BA26DB4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талоги должны быть сформированы до 1 ноября 2010 года с их последующей актуализацией в январе-феврале 2011 года в части вновь  зарегистрированных, реорганизованных и ликвидированных МП и индивидуальных предпринимателей в ноябре-декабре 2010г. объектов (по данным текущей БД ГС-2010 на конец года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талог по малым предприятиям (юридические лица) и каталог по индивидуальным предпринимателям  формируются программно-технологическими средствами БД ГС и БД «Индивидуальные предприниматели» Статреги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C287-8E09-4995-96D6-EBA97DB5C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талог индивидуальных предпринимателей должен быть дополнен информацией об индивидуальных предпринимателях, осуществляющих предпринимательскую деятельность в одном субъекте РФ, но прошедших государственную регистрацию в других субъектах Российской Федерации, отличном от места рег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1117-FFC4-4F2F-8773-A5E3BDEDC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3FC1-3C1C-4045-A0AF-B8FFB9DF3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ыборочная совокупность (ВС) формируется из незначимых объектов и объектов значимость которых не опреде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CFD9-DF81-4315-8CCD-14E5334CC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3872-9EFD-4BAF-8092-1D2D19291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279E-7CA5-48B0-8AC4-6560EA5C4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B410-E958-46DE-839A-F1339F557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EFFF-12C8-46E8-94FE-22D02B8D3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4D6A-69FC-4431-95FD-5F9A874E0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6C3E-7E20-4362-97EF-2C39D9CAF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519B8-50D4-42F0-9952-8916A916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ABC66-7FC3-449C-BEA7-7299D381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FEB13-4D04-436F-81EF-915CE3DF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AD5BD-D7C9-482D-B65B-FA4153FC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54D14-F2D3-4F2E-ACBD-D1B09BD3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CDB1-5AE5-4BED-B67E-3786FC5CD7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A4B50-91B1-489F-A055-517EECD9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BF041-10A6-4A3A-8780-D2FCF28E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8162E-26EE-4DA3-9862-D9E64A2A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65F6D-7549-4C25-BED8-9A38733C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F170B-7AA2-4C4D-B764-FE31FA66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E4DA8-55FC-466C-A6CD-3DBFE3BF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A08F0-4D8B-47F5-A2AD-CF397156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DBA92-B3EE-457F-B8FA-28222654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1084E-98B4-44C1-A700-6E688901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DB0E13-B40D-45FA-AA95-BF3CEEA4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55BE-6BEC-4916-8DB5-1143E31AC8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1C8B9-7001-428C-BD66-9A0CCDC1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6EC6D-EDDE-4468-9463-A2C4122C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A2767-CE87-4700-809F-0D124148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4CCCA-09B8-48FC-A467-974CC82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A940DB-A0A6-4BB1-A89A-CF790DE1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A36FF-E6B1-4FFE-B7FF-38933254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1CB2B-6D42-4862-9B11-F883D5F9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DB75D-6C2C-44B9-95F9-C0B635A9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8053F-D106-41D5-ACE8-E945FA28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86E18-63C0-46DA-92DB-D4781FC5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86BB-4A4D-4D32-9BC6-DF593EFFFA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14DF9-9B6D-4384-B3B8-963A2EB2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C36D5-B0AB-48C0-BE3E-2F4E09C0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88BF2-E937-45A2-92BF-31FF6A2F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6E1B3-9F21-47A9-9BB1-C89440B6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EAE9B-EBD9-413A-8E74-DA919CA6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E8A81-58B8-46D9-B5C7-EF5A99D0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06202-5373-4BD9-9D8B-1247075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D3BCD-3981-42B2-8848-3AE09BEA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392F1-2046-4F9A-B0FF-467B1FF0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D57AE-7955-4395-BAC5-2BE7B406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6A73-D111-44D2-B967-31DF098BF73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91305-4FF1-42FC-BDCD-01DC2EE8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8632D-1EDF-4CBD-A715-36B5A4E0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D6E0-167F-4F95-B26C-56DE67BE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FF2A-20AC-4EFF-A210-23B8C5A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B709-DF91-40D1-9C9B-A9661274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0171-F533-4508-9099-40F1DBA8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A50C-18CA-4276-B9BA-86A89969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1C5F-D5F1-42C5-8EEC-71DA7376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F42CE-28C0-46BD-B9B1-A274446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19F9-3581-4105-8FC3-197DD523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5467-B48A-4A98-9D23-D585849B605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B638-BA4A-43A2-8659-AC0FBF61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EFA3E-63E7-44A6-9008-450240EE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D1DB-B255-459D-933C-11E3BF83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B60A2-DEB6-406D-AB2B-D63952D1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738067-6C02-435A-A4EA-49E9A95E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0B441E-EE5D-483A-9181-171421F3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503038-8855-4B03-A3F8-2301318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A70403-3BFA-444C-97A4-808D539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260171-48F4-4862-AB1E-A8CEB45C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CDA54-3045-48F1-BA49-C4A2A3C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294A-24B0-43D0-B41A-C6890FB24A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2C2C65-D64D-4021-8958-8B81359F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8B6CFC-8947-4D79-9DCF-A7307CA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1ABCDA-05F1-4BB3-B3B3-A11896CA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1C38DD-0E7A-47F8-B9A0-315A9F36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4A105-E99F-4286-BC03-E822A240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42D1-BE2F-4763-BD72-B8AE85771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588-162B-4EF8-8E64-DC8C6352B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5715000" y="1174680"/>
            <a:ext cx="1190520" cy="112680"/>
          </a:xfrm>
          <a:prstGeom prst="rect">
            <a:avLst/>
          </a:prstGeom>
          <a:solidFill>
            <a:srgbClr val="72b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forest-head"/>
          <p:cNvPicPr/>
          <p:nvPr/>
        </p:nvPicPr>
        <p:blipFill>
          <a:blip r:embed="rId2"/>
          <a:srcRect l="0" t="6248" r="0" b="41278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CROC_logo"/>
          <p:cNvPicPr/>
          <p:nvPr/>
        </p:nvPicPr>
        <p:blipFill>
          <a:blip r:embed="rId3"/>
          <a:srcRect l="0" t="0" r="42908" b="24276"/>
          <a:stretch/>
        </p:blipFill>
        <p:spPr>
          <a:xfrm>
            <a:off x="5710320" y="492120"/>
            <a:ext cx="1309680" cy="415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CROC_logo"/>
          <p:cNvPicPr/>
          <p:nvPr/>
        </p:nvPicPr>
        <p:blipFill>
          <a:blip r:embed="rId4"/>
          <a:srcRect l="0" t="71638" r="0" b="0"/>
          <a:stretch/>
        </p:blipFill>
        <p:spPr>
          <a:xfrm>
            <a:off x="5702400" y="878040"/>
            <a:ext cx="2989080" cy="20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5715000" y="2282760"/>
            <a:ext cx="1557360" cy="108000"/>
          </a:xfrm>
          <a:prstGeom prst="rect">
            <a:avLst/>
          </a:prstGeom>
          <a:solidFill>
            <a:srgbClr val="72b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forest-head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ROC_logo"/>
          <p:cNvPicPr/>
          <p:nvPr/>
        </p:nvPicPr>
        <p:blipFill>
          <a:blip r:embed="rId3"/>
          <a:stretch/>
        </p:blipFill>
        <p:spPr>
          <a:xfrm>
            <a:off x="5705640" y="1390680"/>
            <a:ext cx="2989080" cy="716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22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4F21-CDEC-4FDA-AD40-861B0B678F7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3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4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5103-64C0-458F-9DA7-B4EF511A2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5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0BA-8BB0-4572-BC2A-E6A812CA49E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6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7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1890-70F2-4C10-8F02-A9D79BF96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8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FE07-FCBA-4CA2-B9C5-E102D7850FD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9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0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3A11-FB87-4849-82F6-1B3994233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B6C7-AF68-47E7-A7B6-0160ED05E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B4F7-BAFA-4D01-BE0D-5C09A92B6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7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PlaceHolder 1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8055-D90D-47D6-91D7-30C25EAAF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624-8ACC-4057-B3A6-0CCBFC5E8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6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Формирование списков объектов сплошного наблюдения на основе Статрегистра (БД ГС, административная часть Статрегистра, БД «Индивидуальные предприниматели») и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других источников информ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ff"/>
                </a:solidFill>
                <a:latin typeface="Times New Roman"/>
              </a:rPr>
              <a:t>Надина Марина Вале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ff"/>
                </a:solidFill>
                <a:latin typeface="Times New Roman"/>
              </a:rPr>
              <a:t>Ведущий специалист-эксперт отдела сплош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6666ff"/>
                </a:solidFill>
                <a:latin typeface="Times New Roman"/>
              </a:rPr>
              <a:t>обследований малых и средних предприя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ff"/>
                </a:solidFill>
                <a:latin typeface="Times New Roman"/>
              </a:rPr>
              <a:t>Управления статистики предпри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7236000" y="0"/>
            <a:ext cx="190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92612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иболее часто возникающие вопросы</a:t>
            </a:r>
            <a:br>
              <a:rPr sz="20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27"/>
          <p:cNvSpPr/>
          <p:nvPr/>
        </p:nvSpPr>
        <p:spPr>
          <a:xfrm>
            <a:off x="7867800" y="71280"/>
            <a:ext cx="213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38CE-EB32-45F6-A9B8-F28B2A0607F7}" type="slidenum">
              <a:rPr b="1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60360" y="13291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6076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549360"/>
            <a:ext cx="8856720" cy="61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Как быть если ИП отсутствует в Статрегистре</a:t>
            </a:r>
            <a:r>
              <a:rPr b="0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(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рекратил деятельность), но присутствует в Перечне  налогоплательщиков ФН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Индивидуальные предприниматели, прошедшие государственную регистрацию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прекращения деятельности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 внесением соответствующей записи в ЕГРИП и имеющие задолженность по платежам, исполняют обязанность по уплате налогов и сборов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как физические лиц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в порядке, установленном Налоговым кодексом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изические лица, утратившие статус индивидуального предпринимателя, органами государственной статистики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исключаютс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из круга объектов статистического учета на основании данных регистрирующих органов и в этой связи в перечни объектов сплошного наблюдения включаться не должн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Если в Статрегистре у ИП помимо адреса регистрации указано несколько адресов фактической деятельности, то по какому</a:t>
            </a:r>
            <a:r>
              <a:rPr b="0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адресу направлять бланк фор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Бланк формы следует направлять по первому адресу фактической деятельност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Как будут обрабатываться первичные отчеты если они не на машиночитаемых блан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Такие отчеты (сканированные, ксерокопированные формы бланка) надо комплектовать в отдельные пачки (лотки) для дальнейшего  обработки (переписи на машиночитаемый бланк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3480" y="3928680"/>
            <a:ext cx="7781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1258920" y="6093000"/>
            <a:ext cx="6215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1763640" y="692280"/>
            <a:ext cx="5689800" cy="5400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8108280" y="1159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8C4B-3540-47D2-AA95-9E8E9C3F106B}" type="slidenum">
              <a:rPr b="1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Процесс подготовки к проведению сплошного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Прямоугольник 3"/>
          <p:cNvGrpSpPr/>
          <p:nvPr/>
        </p:nvGrpSpPr>
        <p:grpSpPr>
          <a:xfrm>
            <a:off x="1187280" y="1341360"/>
            <a:ext cx="6699240" cy="682560"/>
            <a:chOff x="1187280" y="1341360"/>
            <a:chExt cx="6699240" cy="682560"/>
          </a:xfrm>
        </p:grpSpPr>
        <p:pic>
          <p:nvPicPr>
            <p:cNvPr id="33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187280" y="1341360"/>
              <a:ext cx="6699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1253880" y="1380960"/>
              <a:ext cx="6572160" cy="549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Региональный 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Группа 26"/>
          <p:cNvGrpSpPr/>
          <p:nvPr/>
        </p:nvGrpSpPr>
        <p:grpSpPr>
          <a:xfrm>
            <a:off x="468360" y="2565360"/>
            <a:ext cx="4895640" cy="2545200"/>
            <a:chOff x="468360" y="2565360"/>
            <a:chExt cx="4895640" cy="2545200"/>
          </a:xfrm>
        </p:grpSpPr>
        <p:pic>
          <p:nvPicPr>
            <p:cNvPr id="339" name="Picture 5" descr="C:\Documents and Settings\VBorodko\Local Settings\Temporary Internet Files\Content.IE5\984NL6TR\MCj03000530000[1].wmf"/>
            <p:cNvPicPr/>
            <p:nvPr/>
          </p:nvPicPr>
          <p:blipFill>
            <a:blip r:embed="rId2"/>
            <a:stretch/>
          </p:blipFill>
          <p:spPr>
            <a:xfrm>
              <a:off x="553320" y="2707920"/>
              <a:ext cx="1718280" cy="8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6" descr="C:\Program Files\Microsoft Office\MEDIA\CAGCAT10\j0285750.wmf"/>
            <p:cNvPicPr/>
            <p:nvPr/>
          </p:nvPicPr>
          <p:blipFill>
            <a:blip r:embed="rId3"/>
            <a:stretch/>
          </p:blipFill>
          <p:spPr>
            <a:xfrm>
              <a:off x="3191040" y="2565360"/>
              <a:ext cx="2172960" cy="112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Стрелка вправо 11"/>
            <p:cNvGrpSpPr/>
            <p:nvPr/>
          </p:nvGrpSpPr>
          <p:grpSpPr>
            <a:xfrm>
              <a:off x="2260800" y="2732760"/>
              <a:ext cx="1009080" cy="633960"/>
              <a:chOff x="2260800" y="2732760"/>
              <a:chExt cx="1009080" cy="633960"/>
            </a:xfrm>
          </p:grpSpPr>
          <p:pic>
            <p:nvPicPr>
              <p:cNvPr id="342" name="Стрелка вправо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2260800" y="2732760"/>
                <a:ext cx="1009080" cy="6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2340360" y="2900520"/>
                <a:ext cx="70632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TextBox 13"/>
            <p:cNvSpPr/>
            <p:nvPr/>
          </p:nvSpPr>
          <p:spPr>
            <a:xfrm>
              <a:off x="468360" y="3570120"/>
              <a:ext cx="20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Данные Статрегистра, ФНС и  других источни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"/>
            <p:cNvSpPr/>
            <p:nvPr/>
          </p:nvSpPr>
          <p:spPr>
            <a:xfrm>
              <a:off x="2935080" y="3645000"/>
              <a:ext cx="2212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Формирование списков объектов сплошного 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Группа 28"/>
          <p:cNvGrpSpPr/>
          <p:nvPr/>
        </p:nvGrpSpPr>
        <p:grpSpPr>
          <a:xfrm>
            <a:off x="5292720" y="2133720"/>
            <a:ext cx="2951280" cy="2676960"/>
            <a:chOff x="5292720" y="2133720"/>
            <a:chExt cx="2951280" cy="2676960"/>
          </a:xfrm>
        </p:grpSpPr>
        <p:pic>
          <p:nvPicPr>
            <p:cNvPr id="347" name="Picture 7" descr="C:\Documents and Settings\VBorodko\Local Settings\Temporary Internet Files\Content.IE5\SW26VHJU\MCj04338740000[1].png"/>
            <p:cNvPicPr/>
            <p:nvPr/>
          </p:nvPicPr>
          <p:blipFill>
            <a:blip r:embed="rId5"/>
            <a:stretch/>
          </p:blipFill>
          <p:spPr>
            <a:xfrm>
              <a:off x="6307920" y="2133720"/>
              <a:ext cx="1890000" cy="164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Стрелка вправо 16"/>
            <p:cNvGrpSpPr/>
            <p:nvPr/>
          </p:nvGrpSpPr>
          <p:grpSpPr>
            <a:xfrm>
              <a:off x="5292720" y="2786400"/>
              <a:ext cx="979920" cy="633960"/>
              <a:chOff x="5292720" y="2786400"/>
              <a:chExt cx="979920" cy="633960"/>
            </a:xfrm>
          </p:grpSpPr>
          <p:pic>
            <p:nvPicPr>
              <p:cNvPr id="349" name="Стрелка вправо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5292720" y="2786400"/>
                <a:ext cx="979920" cy="6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5372280" y="2954880"/>
                <a:ext cx="68112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17"/>
            <p:cNvSpPr/>
            <p:nvPr/>
          </p:nvSpPr>
          <p:spPr>
            <a:xfrm>
              <a:off x="5783040" y="3619440"/>
              <a:ext cx="246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Тиражирование именных форм статистической отче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30"/>
          <p:cNvGrpSpPr/>
          <p:nvPr/>
        </p:nvGrpSpPr>
        <p:grpSpPr>
          <a:xfrm>
            <a:off x="2627280" y="4508640"/>
            <a:ext cx="3143160" cy="2257200"/>
            <a:chOff x="2627280" y="4508640"/>
            <a:chExt cx="3143160" cy="2257200"/>
          </a:xfrm>
        </p:grpSpPr>
        <p:pic>
          <p:nvPicPr>
            <p:cNvPr id="353" name="Picture 7" descr="C:\WINDOWS\Temporary Internet Files\Content.IE5\KFDZQ63L\MCj04348280000[1].png"/>
            <p:cNvPicPr/>
            <p:nvPr/>
          </p:nvPicPr>
          <p:blipFill>
            <a:blip r:embed="rId7"/>
            <a:stretch/>
          </p:blipFill>
          <p:spPr>
            <a:xfrm>
              <a:off x="4341600" y="533700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4" name="Стрелка вправо 19"/>
            <p:cNvGrpSpPr/>
            <p:nvPr/>
          </p:nvGrpSpPr>
          <p:grpSpPr>
            <a:xfrm>
              <a:off x="4714920" y="4508640"/>
              <a:ext cx="627840" cy="853200"/>
              <a:chOff x="4714920" y="4508640"/>
              <a:chExt cx="627840" cy="853200"/>
            </a:xfrm>
          </p:grpSpPr>
          <p:pic>
            <p:nvPicPr>
              <p:cNvPr id="355" name="Стрелка вправо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4714920" y="4508640"/>
                <a:ext cx="627840" cy="85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5400000">
                <a:off x="4731480" y="4728240"/>
                <a:ext cx="59328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Box 21"/>
            <p:cNvSpPr/>
            <p:nvPr/>
          </p:nvSpPr>
          <p:spPr>
            <a:xfrm>
              <a:off x="2627280" y="5551560"/>
              <a:ext cx="18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Электронные версии отчетов в Интерне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Группа 29"/>
          <p:cNvGrpSpPr/>
          <p:nvPr/>
        </p:nvGrpSpPr>
        <p:grpSpPr>
          <a:xfrm>
            <a:off x="5929200" y="4508640"/>
            <a:ext cx="3214800" cy="2201760"/>
            <a:chOff x="5929200" y="4508640"/>
            <a:chExt cx="3214800" cy="2201760"/>
          </a:xfrm>
        </p:grpSpPr>
        <p:pic>
          <p:nvPicPr>
            <p:cNvPr id="359" name="Picture 10" descr="C:\Documents and Settings\VBorodko\Local Settings\Temporary Internet Files\Content.IE5\V4A183NL\MCj04414550000[1].png"/>
            <p:cNvPicPr/>
            <p:nvPr/>
          </p:nvPicPr>
          <p:blipFill>
            <a:blip r:embed="rId9"/>
            <a:stretch/>
          </p:blipFill>
          <p:spPr>
            <a:xfrm>
              <a:off x="7272360" y="4838760"/>
              <a:ext cx="1871640" cy="18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0" name="Стрелка вправо 24"/>
            <p:cNvGrpSpPr/>
            <p:nvPr/>
          </p:nvGrpSpPr>
          <p:grpSpPr>
            <a:xfrm>
              <a:off x="7998840" y="4508640"/>
              <a:ext cx="633960" cy="853560"/>
              <a:chOff x="7998840" y="4508640"/>
              <a:chExt cx="633960" cy="853560"/>
            </a:xfrm>
          </p:grpSpPr>
          <p:pic>
            <p:nvPicPr>
              <p:cNvPr id="361" name="Стрелка вправо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7998840" y="4508640"/>
                <a:ext cx="633960" cy="85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5400000">
                <a:off x="8017560" y="4728240"/>
                <a:ext cx="593280" cy="2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TextBox 25"/>
            <p:cNvSpPr/>
            <p:nvPr/>
          </p:nvSpPr>
          <p:spPr>
            <a:xfrm>
              <a:off x="5929200" y="5267160"/>
              <a:ext cx="157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Отправка документов по почте МП и И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Номер слайда 29"/>
          <p:cNvSpPr/>
          <p:nvPr/>
        </p:nvSpPr>
        <p:spPr>
          <a:xfrm>
            <a:off x="7867800" y="0"/>
            <a:ext cx="2133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E3F-AA81-44A6-9A5F-FFB87DDADF3E}" type="slidenum">
              <a:rPr b="1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Формирование каталогов объектов наблю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255096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750960"/>
            <a:ext cx="8785440" cy="60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нформационной основой формирования каталогов объектов, подлежащих сплошному наблюдению, является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Статистический регистр Федеральной службы государственной статистики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алее -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татрегистр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Статрегис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является базой данных об организациях, созданных на территории Российской Федерации, их местных единицах, индивидуальных предпринимателях, других типах единиц, являющихся объектами государственного статистического наблю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700" spc="-1" strike="noStrike">
                <a:solidFill>
                  <a:srgbClr val="333399"/>
                </a:solidFill>
                <a:latin typeface="Arial"/>
              </a:rPr>
              <a:t>База данных субъектов малого предпринимательства для формирования списков по каждому типу субъектов малого предпринимательства имеет следующие</a:t>
            </a:r>
            <a:r>
              <a:rPr b="0" lang="ru-RU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33399"/>
                </a:solidFill>
                <a:latin typeface="Arial"/>
              </a:rPr>
              <a:t>функци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Формирование каталогов  из Статрегистра (БД «Генеральная Совокупность объектов статнаблюдения» и БД «Индивидуальные предприниматели») и информации из других источников – октябрь-ноябрь 2010 года, уточнение списков – январь-февраль 2011 г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Мониторинг  поступления отчетов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 январь-май 2011 г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Расслоение совокупности  на статистически значимые и статистически не значимые, а также значимость, которых не определена – до  15 апреля 2011 г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Формирование выборочной совокупности (ВС) по статистически незначимым респондентам или респондентам значимость, которых не определена, не представившим отчет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15-20 апреля 2011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116560" y="1159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A85E-0E9D-4C99-A307-BCFE1B268EB1}" type="slidenum">
              <a:rPr b="1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Формирования списков объектов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785440" cy="35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писки формируютс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66ff"/>
                </a:solidFill>
                <a:uFillTx/>
                <a:latin typeface="Arial"/>
              </a:rPr>
              <a:t>отдельно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о малым предприятиям и индивидуальным предпринимател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Формирование списков объектов наблюдения происходи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66ff"/>
                </a:solidFill>
                <a:uFillTx/>
                <a:latin typeface="Arial"/>
              </a:rPr>
              <a:t>на региональном уровн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 основании Статрегистра Росстата и представленного ФНС РФ перечня объектов, сдающих налоговую отче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озможны уточнения списков объектов наблюдения из других источников (данных Пенсионного фонда, реестров субъектов малого и среднего предпринимательства – получателей господдержки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187840" y="1159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109-5662-49B7-8DFC-77394C291CD6}" type="slidenum">
              <a:rPr b="1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27"/>
          <p:cNvSpPr/>
          <p:nvPr/>
        </p:nvSpPr>
        <p:spPr>
          <a:xfrm>
            <a:off x="7796160" y="1094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9323-ECD3-4885-964D-C64FA075C349}" type="slidenum">
              <a:rPr b="1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Загрузка информации из други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1286280"/>
            <a:ext cx="817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 каталоге объектов наблюдения предусмотрено поле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Государственная поддержка малого бизнеса».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Предприятия и индивидуальные предприниматели, занесенные в Реестр получателей господдержки, должны быть обследованы в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бязательном порядк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агрузка данных в поле «Государственная поддержка малого бизнеса» должна осуществляться  из файла формата MS Exc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Файл должен содержать следующие коло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именование (ФИО индивидуального предпринимател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чтовый ад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Н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ГРН (ОГРНИ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 данным этих кодов  ИНН и ОГРН (ОГРНИП) программа будет осуществлять поиск получателей господдержки в списке респондентов, все не найденные объекты выдаются отдельным протоколом. Эти данные должны быть проверены экономистом вру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 найденным объектам проставляется метка «получатель господдержк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6666ff"/>
                </a:solidFill>
                <a:uFillTx/>
                <a:latin typeface="Times New Roman"/>
              </a:rPr>
              <a:t>Региональный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C:\Documents and Settings\VBorodko\Local Settings\Temporary Internet Files\Content.IE5\984NL6TR\MCBD10481_0000[1].wmf"/>
          <p:cNvPicPr/>
          <p:nvPr/>
        </p:nvPicPr>
        <p:blipFill>
          <a:blip r:embed="rId1"/>
          <a:stretch/>
        </p:blipFill>
        <p:spPr>
          <a:xfrm>
            <a:off x="179280" y="692280"/>
            <a:ext cx="2519640" cy="2022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C:\Documents and Settings\VBorodko\Local Settings\Temporary Internet Files\Content.IE5\BRSDOMEM\MCj02810820000[1].wmf"/>
          <p:cNvPicPr/>
          <p:nvPr/>
        </p:nvPicPr>
        <p:blipFill>
          <a:blip r:embed="rId2"/>
          <a:stretch/>
        </p:blipFill>
        <p:spPr>
          <a:xfrm>
            <a:off x="539640" y="3933720"/>
            <a:ext cx="1785960" cy="18716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7"/>
          <p:cNvSpPr/>
          <p:nvPr/>
        </p:nvSpPr>
        <p:spPr>
          <a:xfrm>
            <a:off x="250920" y="2565360"/>
            <a:ext cx="20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981 0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алых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8"/>
          <p:cNvSpPr/>
          <p:nvPr/>
        </p:nvSpPr>
        <p:spPr>
          <a:xfrm>
            <a:off x="179280" y="5734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 068 49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ндивидуальных предприним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14"/>
          <p:cNvSpPr/>
          <p:nvPr/>
        </p:nvSpPr>
        <p:spPr>
          <a:xfrm>
            <a:off x="7867800" y="0"/>
            <a:ext cx="2133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D0E6-BAAF-44D9-B718-464BED6AE256}" type="slidenum">
              <a:rPr b="1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1144800"/>
            <a:ext cx="58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Каталог малых предприя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формируется по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месту деятельност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юридического лица и должен соответствовать коду ОКАТО территории  формирования катал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з БД ГС выгружаются юридические лица (организации) с типом «1» (малые предприятия), «4» (микропредприятия) и с типом «8» (тип предприятия не определ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87640" y="3860640"/>
            <a:ext cx="583236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з БД «Индивидуальные предприниматели» формируется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по месту регистраци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каталог  индивидуальных предпринима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груж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</a:rPr>
              <a:t>все объе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0008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В каталог не включ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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ъекты, у которых отсутствует ОГРНИ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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ностранные индивидуальные предприниматели, имеющие код ОКФС 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Присвоение номера автоматизированной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обрабо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омер слайда 15"/>
          <p:cNvSpPr/>
          <p:nvPr/>
        </p:nvSpPr>
        <p:spPr>
          <a:xfrm flipH="1" flipV="1" rot="10800000">
            <a:off x="8714160" y="-285840"/>
            <a:ext cx="4287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617A-7743-4AED-AA28-B14004ECA632}" type="slidenum">
              <a:rPr b="1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1995120"/>
            <a:ext cx="842472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Каждому объекту наблюдения при формировании списков  автоматически присваиваетс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номер автоматизированной обработки (НАО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НАО представляет собой порядковый номер объекта и состоит из 8-ми знаков. Для каждого субъекта РФ формируется отдельная совокупность кодов, поэтому, номер автоматической обработки являетс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уникальным для каждого респондента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НАО должен быть увязан с кодом ОКАТО на уровне 2-х знаков, например код ОКАТО Брянской области (первые две цифры) – «15» далее шесть цифр, номер, присваиваемый каждому объекту индивидуально (юридическому лицу, индивидуальному предпринимателю – не будет отдельной нумерации для юридических лиц и отдельно для индивидуальных предпринимател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37"/>
          <p:cNvSpPr/>
          <p:nvPr/>
        </p:nvSpPr>
        <p:spPr>
          <a:xfrm>
            <a:off x="7786800" y="109440"/>
            <a:ext cx="2133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1D1E-5D6A-4C4F-9D50-C91E98C3AE4F}" type="slidenum">
              <a:rPr b="1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1127160"/>
            <a:ext cx="871380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68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целях получения наиболее полной и достоверной информации о результате сплошного наблюдения проводится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повторный опрос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не ответивших респонд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писок опрашиваемых единиц наблюдения формируется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се статистически значимые респонденты, не представившие отчет, включаются список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обязательном порядке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к ним направляются интервью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стальные единицы наблюдения, не представившие отчет, включаются в список на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борочной основе (ВС).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писки объектов с признаком «ВС»  выгружаются в отдельный файл для формирования списков респондентов, к которым пойдут интервью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редусмотрено автоматическое формирование маршрутных листов для интервьюеров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ff"/>
                </a:solidFill>
                <a:uFillTx/>
                <a:latin typeface="Times New Roman"/>
              </a:rPr>
              <a:t>Обследование интервьюер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Номер слайда 21"/>
          <p:cNvSpPr/>
          <p:nvPr/>
        </p:nvSpPr>
        <p:spPr>
          <a:xfrm>
            <a:off x="7715160" y="1429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B97C-AFCE-4FCB-AF02-FBC2FD1AE62B}" type="slidenum">
              <a:rPr b="1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imes New Roman"/>
              </a:rPr>
              <a:t>Маршрутный л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1395360"/>
            <a:ext cx="7920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маршрутном листе интервьюера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втоматическ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заполняются следующие по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buClr>
                <a:srgbClr val="333399"/>
              </a:buClr>
              <a:buFont typeface="Arial"/>
              <a:buChar char="•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Номер автоматизированной обработки (НА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buClr>
                <a:srgbClr val="333399"/>
              </a:buClr>
              <a:buFont typeface="Arial"/>
              <a:buChar char="•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КПО предпринимателя/малого предпри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buClr>
                <a:srgbClr val="333399"/>
              </a:buClr>
              <a:buFont typeface="Arial"/>
              <a:buChar char="•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Ф.И.О. предпринима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buClr>
                <a:srgbClr val="333399"/>
              </a:buClr>
              <a:buFont typeface="Arial"/>
              <a:buChar char="•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Адрес, по которому зарегистрирован индивидуальный предприниматель/малое предприятие (область (край, республика), город (село), район, улица, дом, квартир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Дата государственной регистрации предпринимателя/малого предприятия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3520" algn="just">
              <a:buClr>
                <a:srgbClr val="333399"/>
              </a:buClr>
              <a:buFont typeface="Arial"/>
              <a:buChar char="•"/>
              <a:tabLst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Контактные телефоны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47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стальные поля маршрутного листа интервьюер заполняет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7:22:55Z</dcterms:created>
  <dc:creator>VB</dc:creator>
  <dc:description/>
  <dc:language>en-US</dc:language>
  <cp:lastModifiedBy>nadina</cp:lastModifiedBy>
  <dcterms:modified xsi:type="dcterms:W3CDTF">2010-10-27T07:03:02Z</dcterms:modified>
  <cp:revision>232</cp:revision>
  <dc:subject/>
  <dc:title>Slide 1</dc:title>
</cp:coreProperties>
</file>