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22B-CFFE-4979-AAAD-10AE3255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B43-1751-4932-8B8F-E48CBB27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578-3CF3-4A82-B4E8-A6F14C05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B45-8D02-40A6-8F8E-1E06E8BA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D225-D449-4CDE-891C-41E7D297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363-7690-4A61-8216-0A484B8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77B2-1301-4EE0-A33F-F1234A9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D00D-8C7E-4CB3-AAA8-F8CC199A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0164-B0A9-4827-8C99-9CACCA74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7247-E9E9-456C-83B1-0E316650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FBD9-E0E9-49C5-BAA6-9E2A06A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395-CA9F-48A7-B7B8-FA24F06C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332A-7CB8-40A8-A8C3-28DDE0D1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DBDD-8F92-4609-A680-97EB185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75FD-FE3C-4DB1-9114-2861E249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53F9-9362-477F-85E5-06C4BBC3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B725-2C29-4E7D-A41C-1D537DC6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5E5-F4A2-49C5-95D7-5C78E1D1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DE7-5D37-4A68-8D99-FA81E7A2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7C7-22B1-4739-A252-4D745586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D46-4612-4960-AF2D-F2283DA7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1BF-CA7E-4D6E-85F1-8A13AE7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298-B413-4506-809E-FFE4CEF3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3B8-484E-4404-8248-7D665225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C4C8-2BAF-4CA3-826C-2785791943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794-063A-48A2-96ED-C146B818F3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2997360"/>
            <a:ext cx="8786880" cy="151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cc3399"/>
                </a:solidFill>
                <a:latin typeface="Times New Roman"/>
              </a:rPr>
              <a:t>Особенности учета</a:t>
            </a:r>
            <a:r>
              <a:rPr b="1" i="1" lang="en-US" sz="31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i="1" lang="ru-RU" sz="3100" spc="-1" strike="noStrike">
                <a:solidFill>
                  <a:srgbClr val="cc3399"/>
                </a:solidFill>
                <a:latin typeface="Times New Roman"/>
              </a:rPr>
              <a:t>платных услуг населению и транспортной деятельности при проведении сплошного наблюдени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907920"/>
            <a:ext cx="864216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90d53"/>
                </a:solidFill>
                <a:latin typeface="Arial"/>
              </a:rPr>
              <a:t>Сплошное наблюдение субъектов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90d53"/>
                </a:solidFill>
                <a:latin typeface="Arial"/>
              </a:rPr>
              <a:t>малого и среднего предпринимательств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Платные услуги населению и транспортная деятельность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488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00"/>
                </a:solidFill>
                <a:latin typeface="Arial"/>
              </a:rPr>
              <a:t>Форма № 1-предприниматель «Сведения о деятельности индивидуального предпринимателя за 2010 год»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7.   Укажите количество грузового и пассажирского автотранспорта, имеющегося в Вашем распоряжении на конец 2010 года (собственного, но без сданного в аренду,  используемого по договору лизинга и/или аренды, личного автотранспорта водителей, принятых на работу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Грузоперевозящие автомобили                                  _____     штук (7.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Пассажирские автобусы (включая микроавтобусы)  _____     штук (7.2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Оцените количество перевозимых  грузов  и  пассажиров  на  коммерческ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основе  (за плату)  и дальность перевозки за типичную неделю декабря 2010 г.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3933720"/>
          <a:ext cx="8280360" cy="2374560"/>
        </p:xfrm>
        <a:graphic>
          <a:graphicData uri="http://schemas.openxmlformats.org/drawingml/2006/table">
            <a:tbl>
              <a:tblPr/>
              <a:tblGrid>
                <a:gridCol w="790560"/>
                <a:gridCol w="4176720"/>
                <a:gridCol w="1224000"/>
                <a:gridCol w="20890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За типичную неделю декабря 2010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7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Перевезено груз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тон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7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редняя дальность перевозки груз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Перевезено пассажиров на маршрутах общего поль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7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редняя дальность маршрута общего поль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Транспор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11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Цель включения в программу сплошного наблюдения вопросов по транспор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44704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определение генеральной совокупности малых предприятий и индивидуальных предпринимателей, занимающихся автоперевозками на коммерческой основе, независимо от наличия лицензий и основного вида деятельности, и организация на ее основе периодических выборочных обследований в сфере автомобиль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оценка объемов транспортной деятельности за 2010 г. и уточнение имеющиеся данные по предпринимателям-лицензи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Транспор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00"/>
                </a:solidFill>
                <a:latin typeface="Arial"/>
              </a:rPr>
              <a:t>Особенности учета транспортной деятельности при проведении сплошного наблюдения субъектов малого и среднего предприниматель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56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в наличие подвижного состава малых предприятий и индивидуальных предпринимателей должны быть включены автомобили не только собственные, но и взятые в аренду, по договору лизинга, а также личный автотранспорт принятых на работу в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56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в итоги по транспортной деятельности должны быть включены данные по всем малым предприятиям и индивидуальным предпринимателям, имеющим автотранспорт, независимо от того, занимаются или нет они  перевозочной деятельность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56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оценочные показатели средней дальности перевозки грузов и средней длины маршрута общего пользования включены в программу сплошного наблюдения для определения на их основе грузооборота и пассажирооборота, выполненного малыми предприятиями и индивидуальными предпринима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56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информация по средним предприятиям будет формироваться на основании форм федерального статистического наблюдения               № 1-ТР(автотранспорт), № 3-автотранс и № 65-автотран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Транспор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Форма № МП-сп «Сведения об основных показателях деятельности малого предприятия за 2010 го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591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3.7. Если  в 2010 году Ваша организация оказывала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УСЛУГИ НАСЕЛЕНИЮ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(кроме услуг торговли и  общественного питания), осуществляя непосредственно прием платежей  от населения  за них,  или  выступала посредником в приеме  платежей  с граждан за  оказанные им  другой организацией  услуги, то укажите виды услуг и суммы полученных в оплату денежных средств (с учетом налог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латные услуги населению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Форма № 1-предприниматель «Сведения о деятельности индивидуального предпринимателя за 2010 го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492280"/>
            <a:ext cx="864072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4.2. Укажите примерную долю выручки, полученной в 2010 году от выполнения работ (услуг) по индивидуальным заказам населения, в общем объеме выручки (в %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Указывается доля  тех услуг,  которые  оказываются  физическим  лицам  для  их  личного  потребления  (не учитывается продажа всех видов  продовольственных и  непродовольственных  товаров,  услуги  общественного питания).  Например,  индивидуальный пошив одежды, обуви, ремонт  бытовой техники,  транспортных средств, строительство и ремонт индивидуальных домов, парикмахерские  услуги,  перевозка  пассажиров,  их  багажа, репетиторство, оказание медицинских услуг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латные услуги населению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-663480"/>
            <a:ext cx="85104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18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Услуг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– полезные результаты производственной деятельности, удовлетворяющие определенные потребности потребителей, но не воплощающиеся в материально-вещественной форме, на которую могли бы распространяться права собствен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Оказание платных услу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– это производимая по заказу потребителей деятельность на возмездной основе, приводящая к изменению местоположения или состояния принадлежащих потребителю предметов, либо к изменению состояния самого потребителя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Объем платных услуг населени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денежный эквивалент услуг, оказанных производителями услуг потребителю или членам его семь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Производители услу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– исключительно резиденты российской экономики (организации, предприятия, индивидуальные предприниматели различных видов деятельности, зарегистрированные на территории Российской Федераци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Потребители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услу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– граждане Российской Федерации, а также граждане других государств (нерезиденты), потребляющие  те или иные услуги на территории Российской Федер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9040" y="476280"/>
            <a:ext cx="50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латные услуги населению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Области применения официальной статистической информации о платных услугах населени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685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расчет конечного потребления домашними хозяйствами услуг при определении  ВВП (ВРП) методом использования до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расчет показателей денежных доходов и расходов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строение социально-экономического прогноза развития страны, перечень показателей которого утвержден постановлением Правительства Российской Федерации от  31.03.2001г. № 24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латные услуги населению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48808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Цель включения в программу сплошного наблюдения вопросов по платным услугам населени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96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формирование генеральной совокупности субъектов малого предпринимательства, занимающихся оказанием платных услуг населению, и актуализация на этой основе  выборочных совокупностей по форме № 1-услуги «Сведения об объеме платных услуг населени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формирование официальной статистической информации об объеме платных услуг населению по видам услуг по полному кругу хозяйствующих субъектов за 2010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уточнение данных текущего наблюдения о доле малого предпринимательства в формировании объема платных услуг насел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латные услуги населению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оля субъектов малого и среднего предпринимательства в объеме платных услуг населению по России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 2009 г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09600" y="1704960"/>
          <a:ext cx="6740640" cy="432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9600" y="1704960"/>
                    <a:ext cx="67406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латные услуги населению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Особенности учета платных услуг населению при проведении сплошного наблюдения субъектов малого и среднего предприниматель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4064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отличие от текущего наблюдения сведения будут предоставляться респондентом по месту головного офиса с учетом территориально-обособленных подразделений, расположенных в других субъектах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спределение объема платных услуг населению по видам услуг будет производиться респондентом на основе ОКВЭД; при обработке информации видовой разрез объема платных услуг населению должен быть перекодирован в соответствии с ОКУ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убъекты малого предпринимательства, осуществляющие агентскую деятельность, должны показать всю стоимость платежа, полученного от потребите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я об объеме платных услуг населению по средним предприятиям будет сформирована на основе данных          формы № 1</a:t>
            </a:r>
            <a:r>
              <a:rPr b="0" lang="ru-MD" sz="2000" spc="-1" strike="noStrike">
                <a:solidFill>
                  <a:srgbClr val="663300"/>
                </a:solidFill>
                <a:latin typeface="Arial"/>
              </a:rPr>
              <a:t>-услуги  «Сведения об объеме платных услуг населению» за 2010 г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латные услуги населению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488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Форма № МП-сп «Сведения об основных показателях деятельности малого предприятия за 2010 г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3.9. Укажите количество грузового и пассажирского автотранспорта, имеющегося в Вашей организации на конец 2010 года (без автотранспорта,  сданного в аренду,  лизинг,  но включая  используемый по договору лизинга и/или аренды, а также используемые организацией личные автомобили принятых на работу водителей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Грузоперевозящие автомобили                                  _____     штук (3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Пассажирские автобусы (включая микроавтобусы)  _____     штук (32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Оцените количество перевозимых  грузов  и  пассажиров  на  коммерческ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основе  (за плату)  и дальность перевозки за типичную неделю декабря 2010 г.</a:t>
            </a:r>
            <a:r>
              <a:rPr b="1" lang="en-US" sz="1600" spc="-1" strike="noStrike">
                <a:solidFill>
                  <a:srgbClr val="996633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33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3789360"/>
          <a:ext cx="8136000" cy="2428920"/>
        </p:xfrm>
        <a:graphic>
          <a:graphicData uri="http://schemas.openxmlformats.org/drawingml/2006/table">
            <a:tbl>
              <a:tblPr/>
              <a:tblGrid>
                <a:gridCol w="3816360"/>
                <a:gridCol w="936720"/>
                <a:gridCol w="1079640"/>
                <a:gridCol w="230328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а типичную неделю декабря 2010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еревезено груз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он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редняя дальность перевозки груз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еревезено пассажиров на маршрутах общего поль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редняя длина маршрута общего поль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Транспор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2:27:07Z</dcterms:created>
  <dc:creator>User</dc:creator>
  <dc:description/>
  <dc:language>en-US</dc:language>
  <cp:lastModifiedBy>Burdenkova</cp:lastModifiedBy>
  <dcterms:modified xsi:type="dcterms:W3CDTF">2010-10-19T12:40:17Z</dcterms:modified>
  <cp:revision>56</cp:revision>
  <dc:subject/>
  <dc:title>Слайд 1</dc:title>
</cp:coreProperties>
</file>