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722-BFDF-4F4A-ADB9-F121CBE6D4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221E-EF39-4104-A721-E236113E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C873-F3BF-40F0-8F37-9A8855E7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E1B2-4622-464D-8412-369B7CC6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7DF-16BF-42E1-A62D-D71C38B8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8F54-20B0-4917-846B-119D60C7D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97C-8AFF-48C1-977F-B97F14C0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A1D-71DE-4CFA-ABE5-831AA376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83D-E871-4154-88E0-0166D11B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7A3-BE78-44DD-BFAA-37FFB28D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ACD-1500-4DD0-A5BA-F737C328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185-AC5F-47E0-A80D-1462031F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65FC-E23E-4C1B-9F45-0A4EDB36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723B-CCC5-4DD7-B93E-18FFD75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B657-9F17-4960-9E9E-BF86376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34B5-4D5B-46D9-9D4B-09A2FBF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4685-46C5-4CFD-B2E2-C3F2F15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5143-CD71-412B-9A95-227D8F31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82E9-353F-47DB-AC08-B4843D6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438-A701-4F58-B065-E8243F14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A656-7859-41F9-A075-7845504A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7688-17FA-497E-B14A-D5217F76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BBD4-0370-4860-B977-50B49B21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493-8A24-425A-BDCF-BD7B659C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195B-4C50-4727-9CC2-86832E49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18DC-D33B-4BE9-A706-6E671845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4236-4356-45AA-8A86-7842A6F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7569-6260-4D52-B073-B4B02B5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DCE2-DE12-4D6F-AE7E-125AC12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DED0-4FF8-4AA9-A4F4-B97C213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110-59EC-4257-BEEB-F2D83328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7768-2714-4DD8-8F73-7D75ACE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DE12-7A7E-45B3-B95B-B8C18A76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C4EE-997F-4682-A322-907F808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FA24-4EC9-4D71-89D3-62B91E2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6453-F4B2-46F5-ABC5-B2B887E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AAE6-254D-4D5F-A2BC-91804EB2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AE63-1941-4972-8198-5242AE90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061-28E7-4707-AE6C-10C96E4F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77D-F098-4D94-B9C7-E4461A0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22B-1A89-4047-A7CA-4419F54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74F-24B4-4D62-A7D6-7205DAE4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C5C-6BB1-4E8F-80F8-118C96D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E1D-08FE-44A7-A88E-C3808E0B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A99A-2C46-46E5-B597-4E51A7E0D1E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F3E-19B8-4998-9EB2-EB279411C3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B4B-C307-4766-8A0C-A611CD115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Ustinova@gks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07280" cy="244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Использование</a:t>
            </a:r>
            <a:br>
              <a:rPr sz="4000"/>
            </a:b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итогов сплошного наблюдения для разработки базовых таблиц «затраты-выпуск»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стинова Н.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осста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сковская область, 1-3 ноября 2010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Цели разработки базовых таблиц «затраты-выпус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Статистическ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арактеристика межотраслевых связей и структурных пропорций экономики РФ в детализированном разрезе отраслей и продукции,  основанных на ОКВЭД и ОКПД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вышение качества и надежности основных макроэкономических показателей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оздание надежной базы дл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работки ежегодных кратких таблиц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недрения метода двойного дефлятирова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есчета динамического ряда показателей СНС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48788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работки сателлитных счетов (туризма, сельского хозяйства, здравоохранения и т.д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точнение параметров ненаблюдаемой экономики в разрезе групп товаров и услуг на основе метода товарных поток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точнение методологии расчета показателей СНС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Реализуются на основе ТР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462-2897-4B00-8749-4A9394042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Цели разработки базовых таблиц «затраты-выпус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200"/>
                </a:solidFill>
                <a:latin typeface="Comic Sans MS"/>
              </a:rPr>
              <a:t>Аналитическ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лучение инструмента для анализа и прогнозирования экономики с целью выработки мер ее государственного регулирования;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оведение сценарных расчетов для оценки влияния различных факторов на развитие экономики (снижение импорта, рост цен на отдельные виды продукции, изменение ставок налогов, увеличение конечного спроса на отдельные товары и услуги и т.д.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500" spc="-1" strike="noStrike">
                <a:solidFill>
                  <a:srgbClr val="00b200"/>
                </a:solidFill>
                <a:latin typeface="Comic Sans MS"/>
              </a:rPr>
              <a:t>Реализуются на основе симметричной ТЗВ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29B-3BC6-4CF9-A424-15F621BF4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11280" y="1773360"/>
            <a:ext cx="2089080" cy="1431720"/>
          </a:xfrm>
          <a:prstGeom prst="roundRect">
            <a:avLst>
              <a:gd name="adj" fmla="val 16667"/>
            </a:avLst>
          </a:prstGeom>
          <a:solidFill>
            <a:srgbClr val="93cc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ыборочное наблюдение за затратами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 2011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4724280"/>
            <a:ext cx="2057400" cy="1366920"/>
          </a:xfrm>
          <a:prstGeom prst="rect">
            <a:avLst/>
          </a:prstGeom>
          <a:solidFill>
            <a:srgbClr val="ff7c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нные федеральных статис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блюдений за 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80000" y="1557360"/>
            <a:ext cx="2087280" cy="1800360"/>
          </a:xfrm>
          <a:prstGeom prst="rect">
            <a:avLst/>
          </a:prstGeom>
          <a:solidFill>
            <a:srgbClr val="d3f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атраты-выпус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32720" y="1413000"/>
            <a:ext cx="2087280" cy="2087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других министерств и ведом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84360" y="309600"/>
            <a:ext cx="60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формирования информационных рес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разработки баз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иц «затраты-выпуск» за 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234936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349360"/>
            <a:ext cx="865440" cy="142920"/>
          </a:xfrm>
          <a:prstGeom prst="leftArrow">
            <a:avLst>
              <a:gd name="adj1" fmla="val 50000"/>
              <a:gd name="adj2" fmla="val 1513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3357720"/>
            <a:ext cx="142920" cy="1366560"/>
          </a:xfrm>
          <a:prstGeom prst="upArrow">
            <a:avLst>
              <a:gd name="adj1" fmla="val 50000"/>
              <a:gd name="adj2" fmla="val 2390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4149720"/>
            <a:ext cx="2305080" cy="1800360"/>
          </a:xfrm>
          <a:custGeom>
            <a:avLst/>
            <a:gdLst>
              <a:gd name="textAreaLeft" fmla="*/ 506880 w 2305080"/>
              <a:gd name="textAreaRight" fmla="*/ 1798200 w 230508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7f2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плош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обсле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убъектов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сред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ед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 201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16360" y="3357720"/>
            <a:ext cx="86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ль СМП в производстве товаров и услуг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По данным СНС за 2008 год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долю субъектов малого предпринимательства (СМП) приходилось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около 20% выпуск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всех товаров и услу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том числ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долю малых предприятий – 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около 14%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долю индивидуальных предпринимателей –</a:t>
            </a:r>
            <a:r>
              <a:rPr b="1" lang="en-US" sz="2000" spc="-1" strike="noStrike">
                <a:solidFill>
                  <a:srgbClr val="6600ff"/>
                </a:solidFill>
                <a:latin typeface="Comic Sans MS"/>
              </a:rPr>
              <a:t>около 6%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Примечание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в 2008 году в СНС границы СМП были определены по-старому (без учета критериев, определенных ФЗ от 27.07.2007г. № 209-ФЗ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44F-98F0-4819-9291-4BD0B8C33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Доля малых предприятий в производстве товаров и услуг (по данным СНС за 2008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79280" y="692280"/>
          <a:ext cx="8856720" cy="6351480"/>
        </p:xfrm>
        <a:graphic>
          <a:graphicData uri="http://schemas.openxmlformats.org/drawingml/2006/table">
            <a:tbl>
              <a:tblPr/>
              <a:tblGrid>
                <a:gridCol w="7848720"/>
                <a:gridCol w="1008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нтаж, ремонт и ТО радио-, теле-, аудио- и видеоаппаратуры (8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по установке офисного оборудования (7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ботка неметаллических отходов и лома (7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по найму рабочей силы и подбору персонала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нтаж, ремонт и ТО тракторов и сельхозмашин (7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-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нтаж,  ремонт и ТО медицинского оборудования (6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туристических агентств и туроператоров (5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О и ремонт автотранспортных средств и мотоциклов (5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ревообрабатывающее оборудование (4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нтаж, ремонт, ТО электродвигателей, генераторов, трансформаторов и электрической аппаратуры (4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стмассовые строительные изделия (4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транспортно-экспедиционных агентств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асители и пигменты (3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ительные работы (3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армацевтическая продукция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24422-A9F6-4302-AB42-F393D301857D}" type="slidenum">
              <a:t>14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Доля сектора домашних хозяйств в производстве товаров и услуг (по данным СНС за 2008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50920" y="1052640"/>
          <a:ext cx="8785080" cy="5752800"/>
        </p:xfrm>
        <a:graphic>
          <a:graphicData uri="http://schemas.openxmlformats.org/drawingml/2006/table">
            <a:tbl>
              <a:tblPr/>
              <a:tblGrid>
                <a:gridCol w="7634160"/>
                <a:gridCol w="1150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такси (9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делочные и другие работы по завершению строительства  (6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монт бытовых изделий и предметов личного пользования  (5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-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 и овощи  (4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персональные услуги (химчистка, стирка, парикмахерские)  (3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 автомобильного грузового транспорта  (2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вейные изделия  (1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о- и морепродукты 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хническое обслуживание и ремонт автотранспортных средств и мотоциклов  (1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4D26-9B0F-4020-9BED-BFAB0C4D600B}" type="slidenum">
              <a:t>15</a:t>
            </a:fld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ак будут использоваться результаты сплошного обследова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82880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формировании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выборочной совокупности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бъектов малого предпринимательства для обследования затрат за 2011 год (10% по малым и не более 5% по ИП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грузка первичной информации из БД в комплекс формирования выборочной совокупности для проведения обследования по структуре затрат (октябрь 2011 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306864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386-B159-4760-9CC3-6E77F38CA5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ак будут использоваться результаты сплошного обследован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При построении таблиц ресурсов и использования (ТРИ)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за 2011 г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а счет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расширения исходных данных по СМП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пределявшихся ранее косвенными методами и лежащих в основе расчета показателей Т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Экстраполяция основных показателей выборочных обследований СМП в годах, сопряженных с годами сплошного обследования (пересчет динамического ряда и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данных за 2011 год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- конец 2012 го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2924280"/>
            <a:ext cx="431640" cy="1224000"/>
          </a:xfrm>
          <a:prstGeom prst="downArrow">
            <a:avLst>
              <a:gd name="adj1" fmla="val 50000"/>
              <a:gd name="adj2" fmla="val 7089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1BC-8060-4A60-B7D0-76945EE5A4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6729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спользуемые показатели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1. Выру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1773360"/>
            <a:ext cx="3240000" cy="36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ы № МП-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№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предприним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ви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773360"/>
            <a:ext cx="3240360" cy="3649680"/>
          </a:xfrm>
          <a:prstGeom prst="rect">
            <a:avLst/>
          </a:prstGeom>
          <a:solidFill>
            <a:srgbClr val="dd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блицы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 исполь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у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 ви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645000"/>
            <a:ext cx="1439640" cy="360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D77-D4BF-4F4D-A5D7-753DD4A08D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Таблица выпусков СМП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(до сплошного обследован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00000" y="2187720"/>
          <a:ext cx="7196400" cy="3520800"/>
        </p:xfrm>
        <a:graphic>
          <a:graphicData uri="http://schemas.openxmlformats.org/drawingml/2006/table">
            <a:tbl>
              <a:tblPr/>
              <a:tblGrid>
                <a:gridCol w="1468440"/>
                <a:gridCol w="1122480"/>
                <a:gridCol w="1195560"/>
                <a:gridCol w="1196640"/>
                <a:gridCol w="1132200"/>
                <a:gridCol w="10810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и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м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ит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71A-4132-4413-BF5F-0C4CAEC076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Краткая характеристика таблиц «затраты-выпуск» и их роль в СН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Роль СМП в производстве отдельных товаров и услу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Использование результатов сплошного обследования для разработки базовых таблиц «затраты-выпуск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23D-7A34-448E-8961-9CF2EBA17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Таблица выпусков СМП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(после сплошного обследования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487520"/>
                <a:gridCol w="946080"/>
                <a:gridCol w="1077840"/>
                <a:gridCol w="1011240"/>
                <a:gridCol w="1019160"/>
                <a:gridCol w="1008360"/>
                <a:gridCol w="1145880"/>
              </a:tblGrid>
              <a:tr h="46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р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з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м-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ит- 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236000" y="22766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059-B60D-45E7-93E4-B436AF10093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Значение для построения базовых таблиц «затраты-выпуск»</a:t>
            </a:r>
            <a:br>
              <a:rPr sz="3200"/>
            </a:b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за 201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точн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состава выпусков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отрасле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для СМП          уточнение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выпусков продукто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о группам товаров и услу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Сокращение дисбалансо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упрощение балансировки табли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Уточн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параметров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ненаблюдаемой эконом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2276640"/>
            <a:ext cx="865440" cy="287280"/>
          </a:xfrm>
          <a:prstGeom prst="rightArrow">
            <a:avLst>
              <a:gd name="adj1" fmla="val 50000"/>
              <a:gd name="adj2" fmla="val 7531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4D2-2DBA-455E-A511-D8BE98341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Используемые показатели</a:t>
            </a:r>
            <a:br>
              <a:rPr sz="2800"/>
            </a:b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2. Отдельные виды затрат на производство товаров (работ,услуг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1773360"/>
            <a:ext cx="3240000" cy="3671640"/>
          </a:xfrm>
          <a:prstGeom prst="rect">
            <a:avLst/>
          </a:prstGeom>
          <a:solidFill>
            <a:srgbClr val="a9e6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а № МП-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) Расход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ырье,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плив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) Арендн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) Оплата усл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рон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1773360"/>
            <a:ext cx="3240360" cy="3649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б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поль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межуто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С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24360" y="3645000"/>
            <a:ext cx="1439640" cy="360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EDE-520A-4BA8-91FB-7E80D70210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Значение для построения базовых таблиц «затраты-выпуск»</a:t>
            </a:r>
            <a:br>
              <a:rPr sz="3200"/>
            </a:b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за 201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ДС = Выпуск - П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величины добавленной стоимости по видам экономической деятельности для СМ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валового внутреннего продукта экономики в цел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рассчитанного производственным метод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299736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AA4-78C5-4568-8C36-3C05466743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Используемые показатели</a:t>
            </a:r>
            <a:br>
              <a:rPr sz="32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3. Показатели затрат тру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773360"/>
            <a:ext cx="3240000" cy="3671640"/>
          </a:xfrm>
          <a:prstGeom prst="rect">
            <a:avLst/>
          </a:prstGeom>
          <a:solidFill>
            <a:srgbClr val="eaf0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а № МП-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редняя чис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)Фонд начис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работной 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844640"/>
            <a:ext cx="3240000" cy="3649680"/>
          </a:xfrm>
          <a:prstGeom prst="rect">
            <a:avLst/>
          </a:prstGeom>
          <a:solidFill>
            <a:srgbClr val="a9e68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б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поль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лат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С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24360" y="3645000"/>
            <a:ext cx="1439640" cy="360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30C-8342-42C6-B5DD-EBA65342BD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Значение для построения базовых таблиц «затраты-выпуск»</a:t>
            </a:r>
            <a:br>
              <a:rPr sz="3200"/>
            </a:b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за 201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величины оплаты труда и затрат труда по видам экономической деятельности для СМ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параметров скрытой оплаты труда по экономике в цел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валового внутреннего продукта экономики в цел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рассчитанного методом дохо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335772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B53-B883-43FA-B25F-F2F4B76B4C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Используемые показатели</a:t>
            </a:r>
            <a:br>
              <a:rPr sz="2400"/>
            </a:b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4. Основные средства и затраты на их приобретение, модернизацию и реконструкц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1773360"/>
            <a:ext cx="3240000" cy="3671640"/>
          </a:xfrm>
          <a:prstGeom prst="rect">
            <a:avLst/>
          </a:prstGeom>
          <a:solidFill>
            <a:srgbClr val="a0e1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а № МП-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траты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обретен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здание осно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редств (по вид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0" y="1773360"/>
            <a:ext cx="3240360" cy="36496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б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поль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ал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ко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основ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капитала у С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Впер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24360" y="3645000"/>
            <a:ext cx="1439640" cy="360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3CE-91FA-41E4-9646-48A16D11F0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Значение для построения базовых таблиц «затраты-выпуск»</a:t>
            </a:r>
            <a:br>
              <a:rPr sz="3200"/>
            </a:b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за 2011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 Уточнение видового состава ВНОК у СМ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 Сокращение дисбалансов по строительству, видам машин и оборудования, транспортным средств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точнение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валового внутреннего продукта экономики в цел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рассчитанного методом расход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284720" y="299736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3FD-4BDA-4611-A2D0-28281D7A36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Значение сплошного обследования малого и среднего бизне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лошное обследование позволит не только получить всесторонние характеристики деятельности субъектов малого и среднего предпринимательств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о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высить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качество и надежность показателей СНС и ТЗВ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и, в частности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алового внутреннего продукт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2D6-F3CF-4210-8FFC-BC31B5827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просы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Ustinova@gks.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л. (495) 607 44 3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84B-43BE-450D-89E3-C7516E58BE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Распоряжение Правительства Российской Федерации от 14 февраля 2009г. № 201-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В пункте 1 распоряжения Росстату поручено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целях формирования официальной статистической информации о межотраслевых связях и структурных пропорциях экономики Российской Федерации, а также повышения качества статистических и прогнозных расчетов макроэкономических показателей разработать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азовые таблицы «затраты-выпуск» за 201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существлять разработку базовых таблиц «затраты-выпуск»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регулярной основе 1 раз в 5 ле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 целях информационного обеспечения разработки базовых таблиц «затраты-выпуск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овести во II квартале 2012 года (по итогам за 2011 год)  выборочное федеральное статистическое наблюдение</a:t>
            </a:r>
            <a:r>
              <a:rPr b="1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 затратами на производство и (или) реализацию товаров (работ, услуг) и результатами деятельности хозяйствующих субъек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F54-A315-4696-BC3C-FE460866B5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457200"/>
            <a:ext cx="640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Что такое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таблицы «затраты-выпуск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. Это комплекс таблиц, включающий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блицу ресурсов товаров и услуг (Т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блицы использования товаров и услуг в ценах покупателей и основных ценах(Т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блицы, характеризующие компоненты  стоимости товаров и услуг (таблицы торговых, транспортных наценок, налогов и субсидий на продукты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мметричную таблицу «затраты-выпуск» (ТЗВ), ранее называемую в нашей стране «межотраслевым балансом производства и распределения продукци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ABD-571B-48E0-A17C-5F08B24F1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Что такое </a:t>
            </a:r>
            <a:br>
              <a:rPr sz="3600"/>
            </a:b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таблицы «затраты-выпуск»?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оставная часть СНС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используются те ж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ения, понятия и источники информации, что и в СНС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Интегрированная система макроэкономических показателей, всесторонне характеризующих структуру экономики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 детализированном разрез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идов экономической деятельности и продук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мерность ТЗВ за 2011 го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ходная (рабочая) 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298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аслей и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640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дукт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ходная                 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аслей и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дук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373-E90C-41A4-9C41-AAAF5F2B5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04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Система таблиц «затраты-выпуск»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755640" y="765000"/>
            <a:ext cx="1295280" cy="1582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блица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059280" y="765000"/>
            <a:ext cx="1512720" cy="1584360"/>
          </a:xfrm>
          <a:prstGeom prst="rect">
            <a:avLst/>
          </a:prstGeom>
          <a:gradFill rotWithShape="0">
            <a:gsLst>
              <a:gs pos="0">
                <a:srgbClr val="efce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блица исполь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ценах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0560" y="765000"/>
            <a:ext cx="576000" cy="1584360"/>
          </a:xfrm>
          <a:prstGeom prst="rect">
            <a:avLst/>
          </a:prstGeom>
          <a:gradFill rotWithShape="0">
            <a:gsLst>
              <a:gs pos="0">
                <a:srgbClr val="efceff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059280" y="2349360"/>
            <a:ext cx="1514160" cy="36036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796000" y="765000"/>
            <a:ext cx="1655640" cy="1584360"/>
          </a:xfrm>
          <a:prstGeom prst="rect">
            <a:avLst/>
          </a:prstGeom>
          <a:gradFill rotWithShape="0">
            <a:gsLst>
              <a:gs pos="0">
                <a:srgbClr val="c2f0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блица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основ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це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7308720" y="765000"/>
            <a:ext cx="576360" cy="1584360"/>
          </a:xfrm>
          <a:prstGeom prst="rect">
            <a:avLst/>
          </a:prstGeom>
          <a:gradFill rotWithShape="0">
            <a:gsLst>
              <a:gs pos="0">
                <a:srgbClr val="c2f0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5796000" y="2349360"/>
            <a:ext cx="1512720" cy="344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43280" y="2924280"/>
            <a:ext cx="136692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132000" y="3068640"/>
            <a:ext cx="14400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492360" y="3357720"/>
            <a:ext cx="158436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851280" y="3645000"/>
            <a:ext cx="1368360" cy="1655640"/>
          </a:xfrm>
          <a:prstGeom prst="rect">
            <a:avLst/>
          </a:prstGeom>
          <a:gradFill rotWithShape="0">
            <a:gsLst>
              <a:gs pos="0">
                <a:srgbClr val="ffc3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блицы наценок, налогов и субсидий на продукты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5219640" y="3645000"/>
            <a:ext cx="360360" cy="1655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421164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851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471636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3780000" y="5516640"/>
            <a:ext cx="1295280" cy="1028520"/>
          </a:xfrm>
          <a:prstGeom prst="rect">
            <a:avLst/>
          </a:prstGeom>
          <a:gradFill rotWithShape="0">
            <a:gsLst>
              <a:gs pos="0">
                <a:srgbClr val="ffffad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мметричная таблиц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затраты-выпус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5075280" y="5516640"/>
            <a:ext cx="36036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3780000" y="6515280"/>
            <a:ext cx="1295280" cy="226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148360" y="1700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>
            <a:off x="3780000" y="27082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1042920" y="2349360"/>
            <a:ext cx="2737080" cy="374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5076720" y="2707920"/>
            <a:ext cx="158292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1763640" y="2349360"/>
            <a:ext cx="1079640" cy="136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6"/>
          <p:cNvSpPr/>
          <p:nvPr/>
        </p:nvSpPr>
        <p:spPr>
          <a:xfrm flipH="1">
            <a:off x="5435640" y="2708280"/>
            <a:ext cx="1728720" cy="35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E5D-89DD-4712-9061-0617D628BE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Таблица ресурсов товаров и услуг (Т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322280"/>
                <a:gridCol w="525960"/>
                <a:gridCol w="638280"/>
                <a:gridCol w="504360"/>
                <a:gridCol w="538200"/>
                <a:gridCol w="886320"/>
                <a:gridCol w="1075680"/>
                <a:gridCol w="699480"/>
                <a:gridCol w="968040"/>
                <a:gridCol w="1070640"/>
              </a:tblGrid>
              <a:tr h="850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ра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м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Т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и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ц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35D9-AEF4-49AA-904D-E563DBF20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Таблица использования товаров и услуг (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900000" y="1828800"/>
          <a:ext cx="7481880" cy="4255920"/>
        </p:xfrm>
        <a:graphic>
          <a:graphicData uri="http://schemas.openxmlformats.org/drawingml/2006/table">
            <a:tbl>
              <a:tblPr/>
              <a:tblGrid>
                <a:gridCol w="909720"/>
                <a:gridCol w="392040"/>
                <a:gridCol w="478080"/>
                <a:gridCol w="376200"/>
                <a:gridCol w="403200"/>
                <a:gridCol w="608040"/>
                <a:gridCol w="557280"/>
                <a:gridCol w="760320"/>
                <a:gridCol w="430200"/>
                <a:gridCol w="523800"/>
                <a:gridCol w="627120"/>
                <a:gridCol w="701640"/>
                <a:gridCol w="71424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ду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рас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треб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коп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к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. р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ц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ПД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КОД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c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алов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ло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произ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F04D-68FE-4E53-A504-42BE3131E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c6ff5"/>
                </a:solidFill>
                <a:uFillTx/>
                <a:latin typeface="Comic Sans MS"/>
              </a:rPr>
              <a:t>Базовы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таблицы «затраты-выпус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ываются на данных экономических переписей или специализированных обследовани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олее детализированные, чем ежегодные ТЗ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лжны строиться как минимум раз в 5 л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жат в основе построения ежегодных ТР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ужат осново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уточнения показателей СНС за базовый год и пересмотра динамических рядов этих показате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C0A-4C5D-4982-8989-C0F9C48E65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9:03:36Z</dcterms:created>
  <dc:creator>Андрей</dc:creator>
  <dc:description/>
  <dc:language>en-US</dc:language>
  <cp:lastModifiedBy>Андрей</cp:lastModifiedBy>
  <dcterms:modified xsi:type="dcterms:W3CDTF">2010-10-31T21:24:29Z</dcterms:modified>
  <cp:revision>19</cp:revision>
  <dc:subject/>
  <dc:title>Слайд 1</dc:title>
</cp:coreProperties>
</file>