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.wmf" ContentType="image/x-wmf"/>
  <Override PartName="/ppt/media/image28.png" ContentType="image/png"/>
  <Override PartName="/ppt/media/image38.jpeg" ContentType="image/jpeg"/>
  <Override PartName="/ppt/media/image27.png" ContentType="image/png"/>
  <Override PartName="/ppt/media/image33.jpeg" ContentType="image/jpeg"/>
  <Override PartName="/ppt/media/image26.png" ContentType="image/png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18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37.jpeg" ContentType="image/jpeg"/>
  <Override PartName="/ppt/media/image8.png" ContentType="image/png"/>
  <Override PartName="/ppt/media/image39.jpeg" ContentType="image/jpeg"/>
  <Override PartName="/ppt/media/image4.wmf" ContentType="image/x-wmf"/>
  <Override PartName="/ppt/media/image9.png" ContentType="image/png"/>
  <Override PartName="/ppt/media/image17.wmf" ContentType="image/x-wmf"/>
  <Override PartName="/ppt/media/image30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40.png" ContentType="image/png"/>
  <Override PartName="/ppt/media/image20.png" ContentType="image/png"/>
  <Override PartName="/ppt/media/image36.jpeg" ContentType="image/jpeg"/>
  <Override PartName="/ppt/media/image34.jpeg" ContentType="image/jpeg"/>
  <Override PartName="/ppt/media/image7.png" ContentType="image/png"/>
  <Override PartName="/ppt/media/image14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5.wmf" ContentType="image/x-wmf"/>
  <Override PartName="/ppt/media/image1.jpeg" ContentType="image/jpeg"/>
  <Override PartName="/ppt/media/image10.png" ContentType="image/png"/>
  <Override PartName="/ppt/media/image35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F0C5-E761-447D-B2AF-16CEB2A94A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4DF3-1E3F-4640-8CED-BE04B3DFF38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узка списка респондентов производится путем вызова соответствующей функции и выбора текстового файла, выгруженного из Статрегистра Росст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подготовки данных файлов по малым предприятиям и индивидуальным предпринимателям описан в ЭО и в руководстве пользователя на подсистему «Формирование списков объектов сплошного наблюде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, располагать подготовленный текстовый файл в такой папке на локальном диске компьютера, на которую у текущего пользователя есть права на запись, так как в процессе своей работы функция загрузки создает в этой папке файлы со списком ошибок и дуб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324E-13B8-4A7B-9DD0-9A964A6B3D0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загрузки проводятся различные проверки данн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формата файла. В случае несовпадения – загрузка прер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ая проверка каждой строки файла на условия, перечисленные в Э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строки файла на то, что данные с этим респондентам уже внесены в список респондентов. Проверка проводится по полям ОКПО, ИНН и ОГРН/ОГРН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ая проверка строки, на то что справочные значения присутствуют в справочниках, на корректность дат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строки файла на то, что она не является дублем другой строки в этом же фай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успешного прохождения всех проверок – сохранение респондента в список респонд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на дубли необходимо потому, что в январе-феврале 2011 года будет осуществляться актуализация списка респондентов в части вновь зарегистрированных и ликвидированных МП и ИП в ноябре-декабре 2010 года. Дозагрузка данных будет  производится в том же порядке, что и первоначальное наполнение списка респонд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1739-9C93-45F8-AED8-25E7003F15F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верке, ошибки обрабатываются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еспондент из файла не проходит логическую проверку, то он попадает в текстовый файл который создается в той же папке, что и исходный и имеет наименование &lt;наименование загружаемого файла&gt;.ошибки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се атрибуты респондента в файле совпадают с аналогичными полями в базе, то есть если респондент является полным дублем, то он попадает в тестовый файл, который создается в той же папке, что и исходный и имеет наименование &lt;наименование загружаемого файла&gt;.дубли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еспондент в файле совпадает с респондентом в базе данных по основным полям (ОКПО, ИНН или ОГРН/ОГРНИП), то есть если респондент является частичным дублем, то такие респонденты попадают в файл формат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S Excel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создается в той же папке, что и исходный и имеет наименование &lt;наименование загружаемого файла&gt;.дубли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респонденты, не прошедшие формальную проверку, записываются в Протокол ошибок загрузки, который доступен через интерфейс подсистемы. Данный журнал позволяет быстро исправить ошибочные поля и «перекинуть» респондента в Список ресонд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еспондент в файле совпадает с другим респондентом в этом же файле, то он попадает в тестовый файл, который создается в той же папке, что и исходный и имеет наименование &lt;наименование загружаемого файла&gt;.дубли_в_файл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C27E-7283-44E8-B381-18777CE622E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респонденты, загруженные в Список респондентов доступны через специальный журн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журнал имеет панель фильтрации и поиска, которые позволяют отфильтровать список или найти конкретного  респонд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журнале одновременно можно обрабатывать респондентов обоих типов, как МП, так и И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любого респондента из списка можно открыть карточку редактирования для уточнения данных. Эта функция необходима, прежде всего для уточнения адресных данных, которые будут использоваться при тиражировании именных машиночитаемых бланков перепи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9078-2DC0-44F5-8103-8E9107B8349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распараллелить процесс  уточнения адресных и прочих данных респондентов, можно использовать отчеты «Формирование списков респондентов в разрезе ОКТМО/ОКВЭД» и «Отчет об измененных адресах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формируются многостраничные файлы формат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S Exce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разрезе ОКТМО и разделов ОКВЭД. Эти файлы можно разослать по районным (окружным) центрам для проверки значений атрибутов и уточнения адресных да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ные данные вводятся в список адресов вручную через карточку редактора респонд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D51B-7B6B-47A1-A7E0-C984D00E105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выверки списка респондентов, подлежащего сплошному обследованию, будет произведено тиражирование именных форм стат. отчетности и отправка их по почте респонден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тиражирование должно быть проведено до конца нынешнего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начале следующего года, в список респондентов необходимо будет догрузить данные о МП  и ИП, зарегистрированных в ноябре-декаб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ые бланки по ним, соответственно будут напечатаны и отправлены поз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окончательного составления и выверки списка респондентов, на нем запускается процедура определения статистической значимости. Этот список также выгружается для загрузки в подсистему электронного сбора отчетности в интерн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9C29-0259-422D-ACFB-6B9DFCA58E9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имерный (не окончательный) вариант машиночитаемых бл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сторонние машиночитаемые бланки будут печататься на стандартной бумаге формата А4, на обычных лазерных принт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обычных отчетов их отличает наличие реперных зна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бланки в дальнейшем без проблем прошли сканирование и распознавание, требуется, чтобы печать была достаточно качественной. Таким образом недопустимо печатать бланки на принтере, если в нем заканчивается картридж (слишком бледная печать) или если присутствуют пол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тиражировании на бланки будет впечатана информация о респондент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рес, в поле, которое попадет в прозрачное окно конве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ер автоматизированной обработки, являющийся основным идентификационным номером респондента в сис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ы ОКПО, ОГРН/ОГРНИП, ИНН, которые используются для дополнительной идентификации респонд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933A-62DF-4F3B-8C14-61F8E18236B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иражирования используется форма, аналогичная списку объектов наблюдения. В фильтре присутствуют такие атрибуты, как признак того, что отчет распечатан и дата тираж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сформировать и распечатать машиночитаемые бланки для группы необходимо отметить нужных респондентов и нажать кнопку «Распечатать». Можно также не выводить документы сразу на принтер, а сформировать файл в формат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D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уже потом распечатать этот файл стандартными сред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BF60-9015-4AE8-80C9-296F7129419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D527-4052-4C56-8587-AD10DCE1DF1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бъектами сплошного наблюдения являются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Средние предприятия (количество порядка – 50 000)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Малые предприятия (количество порядка – 1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70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000)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ые предприниматели (количество порядка – 4 500 000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лагается использовать комбинированный метод проведения обследования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Средние предприятия будут обследованы на основании действующий форм статистического наблюдения. Доработки соответствующего программного обеспечения будут сделаны в соответствии с отдельным конкурсо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Для малых предприятий и индивидуальный предпринимателей будет использован метод самоисчисления в двух вариантах: заполнение бумажных бланков, полученных респондентами по почте или заполнение электронных версий, выложенных в Интернете. Те статистически значимые индивидуальные предприниматели, которые не предоставят заполненные бланки обследования вовремя, будут дополнительно опрошены очно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акже очно будут опрошено выборочное количество респондентов с неопределенной значимостью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о окончанию обследования, будет сформирована единая база данных первичных показателей по всем видам респондентов  и получены общие итоги сплошного наблюд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4BA9-A749-4331-957F-74653C7B925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ся следующие этапы сплошного обследования субъектов малого и среднего предприниматель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ельный пери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сплошного наблю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ая обработка материалов сплошного наблюдения, включающая в себя сканирование, кодирование, контроль и формирование БДС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сплошного наблю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всех периодов автоматизиров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F4F6-4D6A-4836-9A3A-D1511650211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ах сплошного наблюдения участвуют на федеральном уровне Центральный аппарат (ЦА) Росстата и центр обработки данных на федеральном уровне (ЦОДФУ), который отвечает за автоматизированную обработку материалов сплошного наблюдения на федеральном уровне и определяется как победитель открытого конкурса на осуществление автоматизированной обработки материалов сплошного наблюдения субъектов малого и среднего предпринимательства 2011 года на федеральном уровне, проводимого Росста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егиональном уровне - региональные центры подготовки и обработки материалов сплошного наблюдения, которые располагаются в Территориальных органах государственной статистики (ТОГ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же в сплошном наблюдении участвуют специалисты районных отделов статистики. Но их мы не автоматизиру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3AF0-C112-44F0-93BE-611FDFFA970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автоматизации всех этапов сплошного наблюдения будут разработаны 10 подсистем регионального и федерального 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4147-03B0-47DF-A244-DCAE643A9C8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60C7-5068-4806-8560-D9A8C9A1FD9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6C55-5C06-423E-AE3C-91DBCAE950C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истема «Формирование списков объектов сплошного наблюдения» предназначена для создания на региональном уровне первоначального списка респондентов на основании данных, полученных из Статрегистра Росстата и других источников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ее сотрудники ТОГС должны провести выверку полученного списка, уточнить актуальность респондента, факт его принадлежности к малым предприятиям, почтовый адр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спараллеливания процесса, существует возможность выгрузить загруженный список респондентов в разрезе ОКАТО (по районам) и ОКВЭ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7271-635F-441D-9164-9149630D258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15EF-DC03-4C2C-9E70-9550B21BA17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E0E6-5F50-4D4D-A123-B04ADA3E9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21800"/>
            <a:ext cx="822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AEBD-EBC5-404D-AB81-15AD14B5E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8E3E-122B-407D-8355-57CDC31B8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3490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3490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218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218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218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DE97-AB35-473A-B158-698CEA20C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7ADD-3244-465A-973C-B78C79D1E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21800"/>
            <a:ext cx="822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21800"/>
            <a:ext cx="822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3490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3490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218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218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21800"/>
            <a:ext cx="264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3BFF-CE10-46DD-9391-89CF4D168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18C8-EC07-41AD-B51B-8C633CC66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2763-A8FD-45F8-A365-60A466F53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6DBE-FE4B-4207-B60F-5228091BB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4F00-E1C0-40C8-9DF8-FE377405B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40158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218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78C5A-E2F4-4105-B9F8-86A77F32E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349000"/>
            <a:ext cx="40158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21800"/>
            <a:ext cx="8229600" cy="18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C35B-7867-4CA6-BC56-C22650BE9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68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601E-2C3E-40BA-AEAB-BEE4C51C69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5715000" y="1174680"/>
            <a:ext cx="1190520" cy="112680"/>
          </a:xfrm>
          <a:prstGeom prst="rect">
            <a:avLst/>
          </a:prstGeom>
          <a:solidFill>
            <a:srgbClr val="72b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" name="Picture 10" descr="forest-head"/>
          <p:cNvPicPr/>
          <p:nvPr/>
        </p:nvPicPr>
        <p:blipFill>
          <a:blip r:embed="rId2"/>
          <a:srcRect l="0" t="6248" r="0" b="41278"/>
          <a:stretch/>
        </p:blipFill>
        <p:spPr>
          <a:xfrm>
            <a:off x="0" y="0"/>
            <a:ext cx="9144000" cy="12002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1" descr="CROC_logo"/>
          <p:cNvPicPr/>
          <p:nvPr/>
        </p:nvPicPr>
        <p:blipFill>
          <a:blip r:embed="rId3"/>
          <a:srcRect l="0" t="0" r="42908" b="24276"/>
          <a:stretch/>
        </p:blipFill>
        <p:spPr>
          <a:xfrm>
            <a:off x="5710320" y="492120"/>
            <a:ext cx="1309680" cy="415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CROC_logo"/>
          <p:cNvPicPr/>
          <p:nvPr/>
        </p:nvPicPr>
        <p:blipFill>
          <a:blip r:embed="rId4"/>
          <a:srcRect l="0" t="71638" r="0" b="0"/>
          <a:stretch/>
        </p:blipFill>
        <p:spPr>
          <a:xfrm>
            <a:off x="5702400" y="878040"/>
            <a:ext cx="2989080" cy="20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5715000" y="2282760"/>
            <a:ext cx="1557360" cy="108000"/>
          </a:xfrm>
          <a:prstGeom prst="rect">
            <a:avLst/>
          </a:prstGeom>
          <a:solidFill>
            <a:srgbClr val="72b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4" name="Picture 12" descr="forest-head"/>
          <p:cNvPicPr/>
          <p:nvPr/>
        </p:nvPicPr>
        <p:blipFill>
          <a:blip r:embed="rId2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CROC_logo"/>
          <p:cNvPicPr/>
          <p:nvPr/>
        </p:nvPicPr>
        <p:blipFill>
          <a:blip r:embed="rId3"/>
          <a:stretch/>
        </p:blipFill>
        <p:spPr>
          <a:xfrm>
            <a:off x="5705640" y="1390680"/>
            <a:ext cx="2989080" cy="716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image" Target="../media/image38.jpeg"/><Relationship Id="rId11" Type="http://schemas.openxmlformats.org/officeDocument/2006/relationships/image" Target="../media/image3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143680" y="4928760"/>
            <a:ext cx="36432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Черепов Иль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ahoma"/>
              </a:rPr>
              <a:t>Менеджер проект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ahoma"/>
              </a:rPr>
              <a:t>департамента информационных технологий ЗАО «КРОК инкорпорейтед»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28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ПРОГРАММНО-ТЕХНИЧЕСКИЕ СРЕДСТВА ОБРАБОТКИ ДАННЫХ СПЛОШНОГО НАБЛЮДЕНИЯ НА РЕГИОНАЛЬНОМ И ФЕДЕРАЛЬНОМ УРОВНЯХ</a:t>
            </a:r>
            <a:br>
              <a:rPr sz="3200"/>
            </a:b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(ДЕНЬ 1)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ГРУЗКА СПИСКА РЕСПОНДЕНТОВ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210960" y="2000160"/>
            <a:ext cx="87138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РЯДОК ЗАГРУЗКИ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88" name="Содержимое 4" descr=""/>
          <p:cNvPicPr/>
          <p:nvPr/>
        </p:nvPicPr>
        <p:blipFill>
          <a:blip r:embed="rId1"/>
          <a:stretch/>
        </p:blipFill>
        <p:spPr>
          <a:xfrm>
            <a:off x="201600" y="1994040"/>
            <a:ext cx="88329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ОБРАБОТКА ОШИБОК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90" name="Содержимое 5" descr=""/>
          <p:cNvPicPr/>
          <p:nvPr/>
        </p:nvPicPr>
        <p:blipFill>
          <a:blip r:embed="rId1"/>
          <a:stretch/>
        </p:blipFill>
        <p:spPr>
          <a:xfrm>
            <a:off x="298440" y="1835280"/>
            <a:ext cx="85042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ПИСОК ОБЪЕКТОВ НАБЛЮДЕНИЯ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428760" y="1928880"/>
            <a:ext cx="800100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УТОЧНЕНИЕ ДАННЫХ РЕСПОНДЕНТОВ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666880" y="2266920"/>
            <a:ext cx="6477120" cy="4591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285840" y="1857240"/>
            <a:ext cx="52671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2920" y="1356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ИРАЖИРОВАНИЕ ФОРМ СТАТИСТИЧЕСКОЙ ОТЧЕТНОСТИ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5500800" y="1785960"/>
            <a:ext cx="3429000" cy="549360"/>
          </a:xfrm>
          <a:prstGeom prst="rect">
            <a:avLst/>
          </a:prstGeom>
          <a:gradFill rotWithShape="0">
            <a:gsLst>
              <a:gs pos="0">
                <a:srgbClr val="9bfd9b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b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гиональный уровен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8" name="Picture 6" descr="C:\Program Files\Microsoft Office\MEDIA\CAGCAT10\j0285750.wmf"/>
          <p:cNvPicPr/>
          <p:nvPr/>
        </p:nvPicPr>
        <p:blipFill>
          <a:blip r:embed="rId1"/>
          <a:stretch/>
        </p:blipFill>
        <p:spPr>
          <a:xfrm>
            <a:off x="890640" y="237960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4"/>
          <p:cNvSpPr/>
          <p:nvPr/>
        </p:nvSpPr>
        <p:spPr>
          <a:xfrm>
            <a:off x="857160" y="342900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писок респондент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Picture 4" descr="C:\Documents and Settings\VBorodko\Local Settings\Temporary Internet Files\Content.IE5\V4A183NL\MCj03126640000[1].wmf"/>
          <p:cNvPicPr/>
          <p:nvPr/>
        </p:nvPicPr>
        <p:blipFill>
          <a:blip r:embed="rId2"/>
          <a:stretch/>
        </p:blipFill>
        <p:spPr>
          <a:xfrm>
            <a:off x="2286000" y="5286240"/>
            <a:ext cx="1454040" cy="1320840"/>
          </a:xfrm>
          <a:prstGeom prst="rect">
            <a:avLst/>
          </a:prstGeom>
          <a:ln w="0">
            <a:noFill/>
          </a:ln>
        </p:spPr>
      </p:pic>
      <p:sp>
        <p:nvSpPr>
          <p:cNvPr id="201" name="Стрелка вправо 12"/>
          <p:cNvSpPr/>
          <p:nvPr/>
        </p:nvSpPr>
        <p:spPr>
          <a:xfrm rot="4375200">
            <a:off x="1654560" y="4475880"/>
            <a:ext cx="1361880" cy="484200"/>
          </a:xfrm>
          <a:prstGeom prst="rightArrow">
            <a:avLst>
              <a:gd name="adj1" fmla="val 50000"/>
              <a:gd name="adj2" fmla="val 49989"/>
            </a:avLst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1826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TextBox 15"/>
          <p:cNvSpPr/>
          <p:nvPr/>
        </p:nvSpPr>
        <p:spPr>
          <a:xfrm>
            <a:off x="3571920" y="578628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пределение статистической значимо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3" name="Группа 28"/>
          <p:cNvGrpSpPr/>
          <p:nvPr/>
        </p:nvGrpSpPr>
        <p:grpSpPr>
          <a:xfrm>
            <a:off x="2786040" y="2000160"/>
            <a:ext cx="2714760" cy="2403360"/>
            <a:chOff x="2786040" y="2000160"/>
            <a:chExt cx="2714760" cy="2403360"/>
          </a:xfrm>
        </p:grpSpPr>
        <p:pic>
          <p:nvPicPr>
            <p:cNvPr id="204" name="Picture 7" descr="C:\Documents and Settings\VBorodko\Local Settings\Temporary Internet Files\Content.IE5\SW26VHJU\MCj04338740000[1].png"/>
            <p:cNvPicPr/>
            <p:nvPr/>
          </p:nvPicPr>
          <p:blipFill>
            <a:blip r:embed="rId3"/>
            <a:stretch/>
          </p:blipFill>
          <p:spPr>
            <a:xfrm>
              <a:off x="3600720" y="2000160"/>
              <a:ext cx="1645920" cy="16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Стрелка вправо 16"/>
            <p:cNvSpPr/>
            <p:nvPr/>
          </p:nvSpPr>
          <p:spPr>
            <a:xfrm>
              <a:off x="2786040" y="2700000"/>
              <a:ext cx="714240" cy="485640"/>
            </a:xfrm>
            <a:prstGeom prst="rightArrow">
              <a:avLst>
                <a:gd name="adj1" fmla="val 50000"/>
                <a:gd name="adj2" fmla="val 49997"/>
              </a:avLst>
            </a:prstGeom>
            <a:gradFill rotWithShape="0">
              <a:gsLst>
                <a:gs pos="0">
                  <a:srgbClr val="ededed"/>
                </a:gs>
                <a:gs pos="100000">
                  <a:srgbClr val="fafafa"/>
                </a:gs>
              </a:gsLst>
              <a:lin ang="16200000"/>
            </a:gradFill>
            <a:ln w="9360">
              <a:solidFill>
                <a:srgbClr val="d5d5d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TextBox 17"/>
            <p:cNvSpPr/>
            <p:nvPr/>
          </p:nvSpPr>
          <p:spPr>
            <a:xfrm>
              <a:off x="3357360" y="3486600"/>
              <a:ext cx="214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66"/>
                  </a:solidFill>
                  <a:latin typeface="Arial"/>
                </a:rPr>
                <a:t>Тиражирование именных форм стат. отчетности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07" name="Picture 7" descr="C:\WINDOWS\Temporary Internet Files\Content.IE5\KFDZQ63L\MCj04348280000[1].png"/>
          <p:cNvPicPr/>
          <p:nvPr/>
        </p:nvPicPr>
        <p:blipFill>
          <a:blip r:embed="rId4"/>
          <a:stretch/>
        </p:blipFill>
        <p:spPr>
          <a:xfrm>
            <a:off x="5286240" y="44290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208" name="Стрелка вправо 20"/>
          <p:cNvSpPr/>
          <p:nvPr/>
        </p:nvSpPr>
        <p:spPr>
          <a:xfrm rot="924000">
            <a:off x="2443320" y="4365360"/>
            <a:ext cx="2811240" cy="484200"/>
          </a:xfrm>
          <a:prstGeom prst="right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5276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TextBox 21"/>
          <p:cNvSpPr/>
          <p:nvPr/>
        </p:nvSpPr>
        <p:spPr>
          <a:xfrm>
            <a:off x="6786720" y="471492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лектронные версии отчетов в Интернет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0" name="Picture 10" descr="C:\Documents and Settings\VBorodko\Local Settings\Temporary Internet Files\Content.IE5\V4A183NL\MCj04414550000[1].png"/>
          <p:cNvPicPr/>
          <p:nvPr/>
        </p:nvPicPr>
        <p:blipFill>
          <a:blip r:embed="rId5"/>
          <a:stretch/>
        </p:blipFill>
        <p:spPr>
          <a:xfrm>
            <a:off x="5929200" y="221472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11" name="Стрелка вправо 24"/>
          <p:cNvSpPr/>
          <p:nvPr/>
        </p:nvSpPr>
        <p:spPr>
          <a:xfrm>
            <a:off x="5214960" y="2714760"/>
            <a:ext cx="714240" cy="484200"/>
          </a:xfrm>
          <a:prstGeom prst="rightArrow">
            <a:avLst>
              <a:gd name="adj1" fmla="val 50000"/>
              <a:gd name="adj2" fmla="val 49989"/>
            </a:avLst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TextBox 25"/>
          <p:cNvSpPr/>
          <p:nvPr/>
        </p:nvSpPr>
        <p:spPr>
          <a:xfrm>
            <a:off x="7572240" y="2428920"/>
            <a:ext cx="15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тправка документов по почте МП и И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0" y="550548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озагрузка данных по новым респондента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5" descr="C:\Documents and Settings\VBorodko\Local Settings\Temporary Internet Files\Content.IE5\984NL6TR\MCj03000530000[1].wmf"/>
          <p:cNvPicPr/>
          <p:nvPr/>
        </p:nvPicPr>
        <p:blipFill>
          <a:blip r:embed="rId6"/>
          <a:stretch/>
        </p:blipFill>
        <p:spPr>
          <a:xfrm>
            <a:off x="285840" y="4643280"/>
            <a:ext cx="1442880" cy="843120"/>
          </a:xfrm>
          <a:prstGeom prst="rect">
            <a:avLst/>
          </a:prstGeom>
          <a:ln w="0">
            <a:noFill/>
          </a:ln>
        </p:spPr>
      </p:pic>
      <p:sp>
        <p:nvSpPr>
          <p:cNvPr id="215" name="Стрелка вправо 28"/>
          <p:cNvSpPr/>
          <p:nvPr/>
        </p:nvSpPr>
        <p:spPr>
          <a:xfrm rot="17373000">
            <a:off x="197280" y="3931200"/>
            <a:ext cx="952560" cy="48420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2043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2" descr="ЭП-МП 6.jpg"/>
          <p:cNvPicPr/>
          <p:nvPr/>
        </p:nvPicPr>
        <p:blipFill>
          <a:blip r:embed="rId1"/>
          <a:stretch/>
        </p:blipFill>
        <p:spPr>
          <a:xfrm>
            <a:off x="142920" y="1805040"/>
            <a:ext cx="3019320" cy="4267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17" name="Рисунок 12" descr="ЭП-МП 5.jpg"/>
          <p:cNvPicPr/>
          <p:nvPr/>
        </p:nvPicPr>
        <p:blipFill>
          <a:blip r:embed="rId2"/>
          <a:stretch/>
        </p:blipFill>
        <p:spPr>
          <a:xfrm>
            <a:off x="409680" y="2071800"/>
            <a:ext cx="3019320" cy="4267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18" name="Рисунок 7" descr="ЭП-ИП 5.jpg"/>
          <p:cNvPicPr/>
          <p:nvPr/>
        </p:nvPicPr>
        <p:blipFill>
          <a:blip r:embed="rId3"/>
          <a:stretch/>
        </p:blipFill>
        <p:spPr>
          <a:xfrm>
            <a:off x="4552920" y="1805040"/>
            <a:ext cx="3019320" cy="4267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2920" y="12142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НЕШНИЙ ВИД ТИРАЖИРУЕМЫХ БЛАНКОВ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20" name="Рисунок 6" descr="ЭП-ИП 4.jpg"/>
          <p:cNvPicPr/>
          <p:nvPr/>
        </p:nvPicPr>
        <p:blipFill>
          <a:blip r:embed="rId4"/>
          <a:stretch/>
        </p:blipFill>
        <p:spPr>
          <a:xfrm>
            <a:off x="5195880" y="1785960"/>
            <a:ext cx="3019320" cy="4267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21" name="Рисунок 11" descr="ЭП-МП 4.jpg"/>
          <p:cNvPicPr/>
          <p:nvPr/>
        </p:nvPicPr>
        <p:blipFill>
          <a:blip r:embed="rId5"/>
          <a:stretch/>
        </p:blipFill>
        <p:spPr>
          <a:xfrm>
            <a:off x="123840" y="2357280"/>
            <a:ext cx="3019320" cy="42674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22" name="Рисунок 5" descr="ЭП-ИП 3.jpg"/>
          <p:cNvPicPr/>
          <p:nvPr/>
        </p:nvPicPr>
        <p:blipFill>
          <a:blip r:embed="rId6"/>
          <a:stretch/>
        </p:blipFill>
        <p:spPr>
          <a:xfrm>
            <a:off x="5981760" y="1947960"/>
            <a:ext cx="3019320" cy="4267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23" name="Рисунок 4" descr="ЭП-ИП 2.jpg"/>
          <p:cNvPicPr/>
          <p:nvPr/>
        </p:nvPicPr>
        <p:blipFill>
          <a:blip r:embed="rId7"/>
          <a:stretch/>
        </p:blipFill>
        <p:spPr>
          <a:xfrm>
            <a:off x="5767560" y="2286000"/>
            <a:ext cx="3019320" cy="4267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24" name="Рисунок 10" descr="ЭП-МП 3.jpg"/>
          <p:cNvPicPr/>
          <p:nvPr/>
        </p:nvPicPr>
        <p:blipFill>
          <a:blip r:embed="rId8"/>
          <a:stretch/>
        </p:blipFill>
        <p:spPr>
          <a:xfrm>
            <a:off x="1195560" y="1928880"/>
            <a:ext cx="3019320" cy="4267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25" name="Рисунок 9" descr="ЭП-МП 2.jpg"/>
          <p:cNvPicPr/>
          <p:nvPr/>
        </p:nvPicPr>
        <p:blipFill>
          <a:blip r:embed="rId9"/>
          <a:stretch/>
        </p:blipFill>
        <p:spPr>
          <a:xfrm>
            <a:off x="1000080" y="2305080"/>
            <a:ext cx="3019320" cy="4267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26" name="Рисунок 13" descr="ЭП-МП 1.jpg"/>
          <p:cNvPicPr/>
          <p:nvPr/>
        </p:nvPicPr>
        <p:blipFill>
          <a:blip r:embed="rId10"/>
          <a:stretch/>
        </p:blipFill>
        <p:spPr>
          <a:xfrm>
            <a:off x="357120" y="2590920"/>
            <a:ext cx="3019320" cy="4267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27" name="Рисунок 14" descr="ЭП-ИП 1.jpg"/>
          <p:cNvPicPr/>
          <p:nvPr/>
        </p:nvPicPr>
        <p:blipFill>
          <a:blip r:embed="rId11"/>
          <a:stretch/>
        </p:blipFill>
        <p:spPr>
          <a:xfrm>
            <a:off x="4714920" y="2590920"/>
            <a:ext cx="3019320" cy="4267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ПИСОК ДЛЯ ТИРАЖИРОВАНИЯ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928800" y="1897200"/>
            <a:ext cx="742932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143680" y="4928760"/>
            <a:ext cx="36432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Черепов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Иль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Tahoma"/>
              </a:rPr>
              <a:t>Менеджер проектов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Tahoma"/>
              </a:rPr>
              <a:t>департамента информационных технологий ЗАО «КРОК инкорпорейтед»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ВОПРОСЫ?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ОБЪЕКТЫ СПЛОШНОГО НАБЛЮДЕНИЯ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94" name="Picture 6" descr="C:\Documents and Settings\VBorodko\Local Settings\Temporary Internet Files\Content.IE5\984NL6TR\MCBD10481_0000[1].wmf"/>
          <p:cNvPicPr/>
          <p:nvPr/>
        </p:nvPicPr>
        <p:blipFill>
          <a:blip r:embed="rId1"/>
          <a:stretch/>
        </p:blipFill>
        <p:spPr>
          <a:xfrm>
            <a:off x="3357720" y="1763640"/>
            <a:ext cx="2519280" cy="2022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C:\Documents and Settings\VBorodko\Local Settings\Temporary Internet Files\Content.IE5\V4A183NL\MCj02902980000[1].wmf"/>
          <p:cNvPicPr/>
          <p:nvPr/>
        </p:nvPicPr>
        <p:blipFill>
          <a:blip r:embed="rId2"/>
          <a:stretch/>
        </p:blipFill>
        <p:spPr>
          <a:xfrm>
            <a:off x="285840" y="1857240"/>
            <a:ext cx="2570040" cy="2000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C:\Documents and Settings\VBorodko\Local Settings\Temporary Internet Files\Content.IE5\BRSDOMEM\MCj02810820000[1].wmf"/>
          <p:cNvPicPr/>
          <p:nvPr/>
        </p:nvPicPr>
        <p:blipFill>
          <a:blip r:embed="rId3"/>
          <a:stretch/>
        </p:blipFill>
        <p:spPr>
          <a:xfrm>
            <a:off x="6643800" y="2019240"/>
            <a:ext cx="1785960" cy="1871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6"/>
          <p:cNvSpPr/>
          <p:nvPr/>
        </p:nvSpPr>
        <p:spPr>
          <a:xfrm>
            <a:off x="285840" y="3790800"/>
            <a:ext cx="207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0 000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редних предприят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3357720" y="3790800"/>
            <a:ext cx="207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 870 0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алых предприят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6215040" y="379080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 500 000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дивидуальных предпринимателе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Правая фигурная скобка 19"/>
          <p:cNvSpPr/>
          <p:nvPr/>
        </p:nvSpPr>
        <p:spPr>
          <a:xfrm rot="5400000">
            <a:off x="5786280" y="1785600"/>
            <a:ext cx="500040" cy="578664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5786640"/>
              <a:gd name="textAreaBottom" fmla="*/ 5773680 h 578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8"/>
                  <a:pt x="10800" y="156"/>
                </a:cubicBezTo>
                <a:lnTo>
                  <a:pt x="10800" y="10644"/>
                </a:lnTo>
                <a:cubicBezTo>
                  <a:pt x="10800" y="10722"/>
                  <a:pt x="16200" y="10800"/>
                  <a:pt x="21600" y="10800"/>
                </a:cubicBezTo>
                <a:cubicBezTo>
                  <a:pt x="16200" y="10800"/>
                  <a:pt x="10800" y="10878"/>
                  <a:pt x="10800" y="10956"/>
                </a:cubicBezTo>
                <a:lnTo>
                  <a:pt x="10800" y="21444"/>
                </a:lnTo>
                <a:cubicBezTo>
                  <a:pt x="10800" y="2152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6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Правая фигурная скобка 20"/>
          <p:cNvSpPr/>
          <p:nvPr/>
        </p:nvSpPr>
        <p:spPr>
          <a:xfrm rot="5400000">
            <a:off x="1071360" y="3571560"/>
            <a:ext cx="500040" cy="221472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2214720"/>
              <a:gd name="textAreaBottom" fmla="*/ 2201760 h 221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3"/>
                  <a:pt x="10800" y="406"/>
                </a:cubicBezTo>
                <a:lnTo>
                  <a:pt x="10800" y="10394"/>
                </a:lnTo>
                <a:cubicBezTo>
                  <a:pt x="10800" y="10597"/>
                  <a:pt x="16200" y="10800"/>
                  <a:pt x="21600" y="10800"/>
                </a:cubicBezTo>
                <a:cubicBezTo>
                  <a:pt x="16200" y="10800"/>
                  <a:pt x="10800" y="11003"/>
                  <a:pt x="10800" y="11206"/>
                </a:cubicBezTo>
                <a:lnTo>
                  <a:pt x="10800" y="21194"/>
                </a:lnTo>
                <a:cubicBezTo>
                  <a:pt x="10800" y="2139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6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TextBox 21"/>
          <p:cNvSpPr/>
          <p:nvPr/>
        </p:nvSpPr>
        <p:spPr>
          <a:xfrm>
            <a:off x="142920" y="492912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основании действующих форм стат. наблюде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Box 22"/>
          <p:cNvSpPr/>
          <p:nvPr/>
        </p:nvSpPr>
        <p:spPr>
          <a:xfrm>
            <a:off x="1285920" y="6149880"/>
            <a:ext cx="67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Единая база данных первичных показателей, получение итогов сплошного наблюде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Правая фигурная скобка 23"/>
          <p:cNvSpPr/>
          <p:nvPr/>
        </p:nvSpPr>
        <p:spPr>
          <a:xfrm rot="5400000">
            <a:off x="4500000" y="2214360"/>
            <a:ext cx="500400" cy="7643880"/>
          </a:xfrm>
          <a:custGeom>
            <a:avLst/>
            <a:gdLst>
              <a:gd name="textAreaLeft" fmla="*/ 0 w 500400"/>
              <a:gd name="textAreaRight" fmla="*/ 180720 w 500400"/>
              <a:gd name="textAreaTop" fmla="*/ 12960 h 7643880"/>
              <a:gd name="textAreaBottom" fmla="*/ 7630920 h 764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"/>
                  <a:pt x="10800" y="118"/>
                </a:cubicBezTo>
                <a:lnTo>
                  <a:pt x="10800" y="10682"/>
                </a:lnTo>
                <a:cubicBezTo>
                  <a:pt x="10800" y="10741"/>
                  <a:pt x="16200" y="10800"/>
                  <a:pt x="21600" y="10800"/>
                </a:cubicBezTo>
                <a:cubicBezTo>
                  <a:pt x="16200" y="10800"/>
                  <a:pt x="10800" y="10859"/>
                  <a:pt x="10800" y="10918"/>
                </a:cubicBezTo>
                <a:lnTo>
                  <a:pt x="10800" y="21482"/>
                </a:lnTo>
                <a:cubicBezTo>
                  <a:pt x="10800" y="2154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6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Box 24"/>
          <p:cNvSpPr/>
          <p:nvPr/>
        </p:nvSpPr>
        <p:spPr>
          <a:xfrm>
            <a:off x="3214800" y="4857840"/>
            <a:ext cx="55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плошное наблюдение методом самоисчисления + опрос статистически значимых респондентов и выборки неопределенных респондент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Номер слайда 14"/>
          <p:cNvSpPr/>
          <p:nvPr/>
        </p:nvSpPr>
        <p:spPr>
          <a:xfrm>
            <a:off x="7867800" y="0"/>
            <a:ext cx="2133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6168-8193-408C-B9AB-39171CE27593}" type="slidenum">
              <a:rPr b="1" lang="ru-RU" sz="1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079640"/>
            <a:ext cx="830592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ЭТАПЫ СПЛОШНОГО ОБСЛЕДОВАНИЯ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Выноска со стрелкой вниз 58"/>
          <p:cNvSpPr/>
          <p:nvPr/>
        </p:nvSpPr>
        <p:spPr>
          <a:xfrm>
            <a:off x="142920" y="5075280"/>
            <a:ext cx="2857320" cy="865080"/>
          </a:xfrm>
          <a:prstGeom prst="downArrowCallout">
            <a:avLst>
              <a:gd name="adj1" fmla="val 24989"/>
              <a:gd name="adj2" fmla="val 25001"/>
              <a:gd name="adj3" fmla="val 25000"/>
              <a:gd name="adj4" fmla="val 64977"/>
            </a:avLst>
          </a:prstGeom>
          <a:gradFill rotWithShape="0">
            <a:gsLst>
              <a:gs pos="0">
                <a:srgbClr val="cdcdf3"/>
              </a:gs>
              <a:gs pos="100000">
                <a:srgbClr val="f1f1fc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ормирование БДСН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Выноска со стрелкой вниз 57"/>
          <p:cNvSpPr/>
          <p:nvPr/>
        </p:nvSpPr>
        <p:spPr>
          <a:xfrm>
            <a:off x="142920" y="4214880"/>
            <a:ext cx="2857320" cy="863640"/>
          </a:xfrm>
          <a:prstGeom prst="downArrowCallout">
            <a:avLst>
              <a:gd name="adj1" fmla="val 25000"/>
              <a:gd name="adj2" fmla="val 24997"/>
              <a:gd name="adj3" fmla="val 25000"/>
              <a:gd name="adj4" fmla="val 64977"/>
            </a:avLst>
          </a:prstGeom>
          <a:gradFill rotWithShape="0">
            <a:gsLst>
              <a:gs pos="0">
                <a:srgbClr val="cdcdf3"/>
              </a:gs>
              <a:gs pos="100000">
                <a:srgbClr val="f1f1fc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дирование и контрол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Выноска со стрелкой вниз 56"/>
          <p:cNvSpPr/>
          <p:nvPr/>
        </p:nvSpPr>
        <p:spPr>
          <a:xfrm>
            <a:off x="142920" y="3357720"/>
            <a:ext cx="2857320" cy="863280"/>
          </a:xfrm>
          <a:prstGeom prst="downArrowCallout">
            <a:avLst>
              <a:gd name="adj1" fmla="val 25010"/>
              <a:gd name="adj2" fmla="val 25008"/>
              <a:gd name="adj3" fmla="val 25000"/>
              <a:gd name="adj4" fmla="val 64977"/>
            </a:avLst>
          </a:prstGeom>
          <a:gradFill rotWithShape="0">
            <a:gsLst>
              <a:gs pos="0">
                <a:srgbClr val="cdcdf3"/>
              </a:gs>
              <a:gs pos="100000">
                <a:srgbClr val="f1f1fc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канировани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Выноска со стрелкой вниз 48"/>
          <p:cNvSpPr/>
          <p:nvPr/>
        </p:nvSpPr>
        <p:spPr>
          <a:xfrm>
            <a:off x="142920" y="2500200"/>
            <a:ext cx="2857320" cy="863640"/>
          </a:xfrm>
          <a:prstGeom prst="downArrowCallout">
            <a:avLst>
              <a:gd name="adj1" fmla="val 25000"/>
              <a:gd name="adj2" fmla="val 24997"/>
              <a:gd name="adj3" fmla="val 25000"/>
              <a:gd name="adj4" fmla="val 64977"/>
            </a:avLst>
          </a:prstGeom>
          <a:gradFill rotWithShape="0">
            <a:gsLst>
              <a:gs pos="0">
                <a:srgbClr val="cdcdf3"/>
              </a:gs>
              <a:gs pos="100000">
                <a:srgbClr val="f1f1fc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роведение сплошного наблюдени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Выноска со стрелкой вниз 39"/>
          <p:cNvSpPr/>
          <p:nvPr/>
        </p:nvSpPr>
        <p:spPr>
          <a:xfrm>
            <a:off x="142920" y="1643040"/>
            <a:ext cx="2857320" cy="863640"/>
          </a:xfrm>
          <a:prstGeom prst="downArrowCallout">
            <a:avLst>
              <a:gd name="adj1" fmla="val 25000"/>
              <a:gd name="adj2" fmla="val 24997"/>
              <a:gd name="adj3" fmla="val 25000"/>
              <a:gd name="adj4" fmla="val 64977"/>
            </a:avLst>
          </a:prstGeom>
          <a:gradFill rotWithShape="0">
            <a:gsLst>
              <a:gs pos="0">
                <a:srgbClr val="cdcdf3"/>
              </a:gs>
              <a:gs pos="100000">
                <a:srgbClr val="f1f1fc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одготовка к проведению сплошного наблюдени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3071880" y="2071800"/>
            <a:ext cx="58579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Constantia"/>
              </a:rPr>
              <a:t>Формирование списка респондентов, тиражирование бланков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Constantia"/>
              </a:rPr>
              <a:t>Проведение заочного и очного обследования, регистрация поступающих отчетов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Constantia"/>
              </a:rPr>
              <a:t>Сканирование, распознавание, минимальный контроль комплектности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Constantia"/>
              </a:rPr>
              <a:t>Экранное кодирование, формальный и логический контроль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Constantia"/>
              </a:rPr>
              <a:t> </a:t>
            </a:r>
            <a:r>
              <a:rPr b="0" lang="ru-RU" sz="2100" spc="-1" strike="noStrike">
                <a:solidFill>
                  <a:srgbClr val="003366"/>
                </a:solidFill>
                <a:latin typeface="Constantia"/>
              </a:rPr>
              <a:t>Формирование базы данных сплошного наблюдения, автокоррекция, импутация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Constantia"/>
              </a:rPr>
              <a:t>Формирование итогов сплошного наблюдения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Выноска со стрелкой вниз 10"/>
          <p:cNvSpPr/>
          <p:nvPr/>
        </p:nvSpPr>
        <p:spPr>
          <a:xfrm>
            <a:off x="142920" y="5994360"/>
            <a:ext cx="2857320" cy="863640"/>
          </a:xfrm>
          <a:prstGeom prst="downArrowCallout">
            <a:avLst>
              <a:gd name="adj1" fmla="val 25000"/>
              <a:gd name="adj2" fmla="val 24997"/>
              <a:gd name="adj3" fmla="val 25000"/>
              <a:gd name="adj4" fmla="val 64977"/>
            </a:avLst>
          </a:prstGeom>
          <a:gradFill rotWithShape="0">
            <a:gsLst>
              <a:gs pos="0">
                <a:srgbClr val="cdcdf3"/>
              </a:gs>
              <a:gs pos="100000">
                <a:srgbClr val="f1f1fc"/>
              </a:gs>
            </a:gsLst>
            <a:lin ang="16200000"/>
          </a:gradFill>
          <a:ln w="9360">
            <a:solidFill>
              <a:srgbClr val="a5a5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олучение итогов сплошного наблюдени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1203120"/>
            <a:ext cx="830592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РОВНИ АВТОМАТИЗАЦИИ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6" name="Прямоугольник 10"/>
          <p:cNvSpPr/>
          <p:nvPr/>
        </p:nvSpPr>
        <p:spPr>
          <a:xfrm>
            <a:off x="142920" y="1857240"/>
            <a:ext cx="2286000" cy="831960"/>
          </a:xfrm>
          <a:prstGeom prst="rect">
            <a:avLst/>
          </a:prstGeom>
          <a:gradFill rotWithShape="0">
            <a:gsLst>
              <a:gs pos="0">
                <a:srgbClr val="95adff"/>
              </a:gs>
              <a:gs pos="100000">
                <a:srgbClr val="e1e8ff"/>
              </a:gs>
            </a:gsLst>
            <a:lin ang="16200000"/>
          </a:gradFill>
          <a:ln w="9360">
            <a:solidFill>
              <a:srgbClr val="2e62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ЕДЕРАЛЬНЫЙ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УРОВЕН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Прямоугольник 12"/>
          <p:cNvSpPr/>
          <p:nvPr/>
        </p:nvSpPr>
        <p:spPr>
          <a:xfrm>
            <a:off x="3429000" y="2068560"/>
            <a:ext cx="2143080" cy="571320"/>
          </a:xfrm>
          <a:prstGeom prst="rect">
            <a:avLst/>
          </a:prstGeom>
          <a:gradFill rotWithShape="0">
            <a:gsLst>
              <a:gs pos="0">
                <a:srgbClr val="95adff"/>
              </a:gs>
              <a:gs pos="100000">
                <a:srgbClr val="e1e8ff"/>
              </a:gs>
            </a:gsLst>
            <a:lin ang="16200000"/>
          </a:gradFill>
          <a:ln w="9360">
            <a:solidFill>
              <a:srgbClr val="2e62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ЦОДФ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Прямоугольник 14"/>
          <p:cNvSpPr/>
          <p:nvPr/>
        </p:nvSpPr>
        <p:spPr>
          <a:xfrm>
            <a:off x="5572080" y="2068560"/>
            <a:ext cx="2143080" cy="571320"/>
          </a:xfrm>
          <a:prstGeom prst="rect">
            <a:avLst/>
          </a:prstGeom>
          <a:gradFill rotWithShape="0">
            <a:gsLst>
              <a:gs pos="0">
                <a:srgbClr val="95adff"/>
              </a:gs>
              <a:gs pos="100000">
                <a:srgbClr val="e1e8ff"/>
              </a:gs>
            </a:gsLst>
            <a:lin ang="16200000"/>
          </a:gradFill>
          <a:ln w="9360">
            <a:solidFill>
              <a:srgbClr val="2e62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ЦА Росста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Прямоугольник 16"/>
          <p:cNvSpPr/>
          <p:nvPr/>
        </p:nvSpPr>
        <p:spPr>
          <a:xfrm>
            <a:off x="142920" y="2714760"/>
            <a:ext cx="2286000" cy="2643120"/>
          </a:xfrm>
          <a:prstGeom prst="rect">
            <a:avLst/>
          </a:prstGeom>
          <a:gradFill rotWithShape="0">
            <a:gsLst>
              <a:gs pos="0">
                <a:srgbClr val="a1f1a1"/>
              </a:gs>
              <a:gs pos="100000">
                <a:srgbClr val="e6fce6"/>
              </a:gs>
            </a:gsLst>
            <a:lin ang="16200000"/>
          </a:gradFill>
          <a:ln w="9360">
            <a:solidFill>
              <a:srgbClr val="009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ЕГИОНАЛЬНЫЙ УРОВЕН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0" name="Прямоугольник 17"/>
          <p:cNvGrpSpPr/>
          <p:nvPr/>
        </p:nvGrpSpPr>
        <p:grpSpPr>
          <a:xfrm>
            <a:off x="79200" y="5321160"/>
            <a:ext cx="2401920" cy="1109880"/>
            <a:chOff x="79200" y="5321160"/>
            <a:chExt cx="2401920" cy="1109880"/>
          </a:xfrm>
        </p:grpSpPr>
        <p:pic>
          <p:nvPicPr>
            <p:cNvPr id="121" name="Прямоугольник 17" descr=""/>
            <p:cNvPicPr/>
            <p:nvPr/>
          </p:nvPicPr>
          <p:blipFill>
            <a:blip r:embed="rId1"/>
            <a:stretch/>
          </p:blipFill>
          <p:spPr>
            <a:xfrm>
              <a:off x="79200" y="5321160"/>
              <a:ext cx="24019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42920" y="5357880"/>
              <a:ext cx="2286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3366"/>
                  </a:solidFill>
                  <a:latin typeface="Arial"/>
                </a:rPr>
                <a:t>РАЙОННЫЙ УРОВЕНЬ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3" name="Прямоугольник 18"/>
          <p:cNvSpPr/>
          <p:nvPr/>
        </p:nvSpPr>
        <p:spPr>
          <a:xfrm>
            <a:off x="2786040" y="3854520"/>
            <a:ext cx="857160" cy="571320"/>
          </a:xfrm>
          <a:prstGeom prst="rect">
            <a:avLst/>
          </a:prstGeom>
          <a:gradFill rotWithShape="0">
            <a:gsLst>
              <a:gs pos="0">
                <a:srgbClr val="9bfd9b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b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ОГ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4" name="Прямоугольник 19"/>
          <p:cNvGrpSpPr/>
          <p:nvPr/>
        </p:nvGrpSpPr>
        <p:grpSpPr>
          <a:xfrm>
            <a:off x="2494080" y="5479920"/>
            <a:ext cx="1620720" cy="738360"/>
            <a:chOff x="2494080" y="5479920"/>
            <a:chExt cx="1620720" cy="738360"/>
          </a:xfrm>
        </p:grpSpPr>
        <p:pic>
          <p:nvPicPr>
            <p:cNvPr id="125" name="Прямоугольник 19" descr=""/>
            <p:cNvPicPr/>
            <p:nvPr/>
          </p:nvPicPr>
          <p:blipFill>
            <a:blip r:embed="rId2"/>
            <a:stretch/>
          </p:blipFill>
          <p:spPr>
            <a:xfrm>
              <a:off x="2494080" y="5479920"/>
              <a:ext cx="162072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571840" y="5575320"/>
              <a:ext cx="14288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3366"/>
                  </a:solidFill>
                  <a:latin typeface="Arial"/>
                </a:rPr>
                <a:t>Районный центр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7" name="Прямоугольник 20"/>
          <p:cNvSpPr/>
          <p:nvPr/>
        </p:nvSpPr>
        <p:spPr>
          <a:xfrm>
            <a:off x="3714840" y="3854520"/>
            <a:ext cx="857160" cy="571320"/>
          </a:xfrm>
          <a:prstGeom prst="rect">
            <a:avLst/>
          </a:prstGeom>
          <a:gradFill rotWithShape="0">
            <a:gsLst>
              <a:gs pos="0">
                <a:srgbClr val="9bfd9b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b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ОГ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Прямоугольник 21"/>
          <p:cNvSpPr/>
          <p:nvPr/>
        </p:nvSpPr>
        <p:spPr>
          <a:xfrm>
            <a:off x="5000760" y="3854520"/>
            <a:ext cx="857160" cy="571320"/>
          </a:xfrm>
          <a:prstGeom prst="rect">
            <a:avLst/>
          </a:prstGeom>
          <a:gradFill rotWithShape="0">
            <a:gsLst>
              <a:gs pos="0">
                <a:srgbClr val="9bfd9b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b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ОГ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Box 24"/>
          <p:cNvSpPr/>
          <p:nvPr/>
        </p:nvSpPr>
        <p:spPr>
          <a:xfrm>
            <a:off x="4500720" y="378288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onstantia"/>
              </a:rPr>
              <a:t>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Прямоугольник 25"/>
          <p:cNvSpPr/>
          <p:nvPr/>
        </p:nvSpPr>
        <p:spPr>
          <a:xfrm>
            <a:off x="6500880" y="3854520"/>
            <a:ext cx="857160" cy="571320"/>
          </a:xfrm>
          <a:prstGeom prst="rect">
            <a:avLst/>
          </a:prstGeom>
          <a:gradFill rotWithShape="0">
            <a:gsLst>
              <a:gs pos="0">
                <a:srgbClr val="9bfd9b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b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ОГ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Прямоугольник 26"/>
          <p:cNvSpPr/>
          <p:nvPr/>
        </p:nvSpPr>
        <p:spPr>
          <a:xfrm>
            <a:off x="7786800" y="3854520"/>
            <a:ext cx="857160" cy="571320"/>
          </a:xfrm>
          <a:prstGeom prst="rect">
            <a:avLst/>
          </a:prstGeom>
          <a:gradFill rotWithShape="0">
            <a:gsLst>
              <a:gs pos="0">
                <a:srgbClr val="9bfd9b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b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ОГ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Box 27"/>
          <p:cNvSpPr/>
          <p:nvPr/>
        </p:nvSpPr>
        <p:spPr>
          <a:xfrm>
            <a:off x="7286760" y="378288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onstantia"/>
              </a:rPr>
              <a:t>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33" name="Прямая со стрелкой 29"/>
          <p:cNvCxnSpPr/>
          <p:nvPr/>
        </p:nvCxnSpPr>
        <p:spPr>
          <a:xfrm flipV="1">
            <a:off x="3213720" y="2639520"/>
            <a:ext cx="786600" cy="1215360"/>
          </a:xfrm>
          <a:prstGeom prst="straightConnector1">
            <a:avLst/>
          </a:prstGeom>
          <a:ln w="25560">
            <a:solidFill>
              <a:srgbClr val="2e62c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Прямая со стрелкой 30"/>
          <p:cNvCxnSpPr/>
          <p:nvPr/>
        </p:nvCxnSpPr>
        <p:spPr>
          <a:xfrm flipV="1">
            <a:off x="4142160" y="2639520"/>
            <a:ext cx="72360" cy="1215360"/>
          </a:xfrm>
          <a:prstGeom prst="straightConnector1">
            <a:avLst/>
          </a:prstGeom>
          <a:ln w="25560">
            <a:solidFill>
              <a:srgbClr val="2e62c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5" name="Прямая со стрелкой 32"/>
          <p:cNvCxnSpPr/>
          <p:nvPr/>
        </p:nvCxnSpPr>
        <p:spPr>
          <a:xfrm flipH="1" flipV="1">
            <a:off x="4500000" y="2639520"/>
            <a:ext cx="929160" cy="1215360"/>
          </a:xfrm>
          <a:prstGeom prst="straightConnector1">
            <a:avLst/>
          </a:prstGeom>
          <a:ln w="25560">
            <a:solidFill>
              <a:srgbClr val="2e62cb"/>
            </a:solidFill>
            <a:miter/>
            <a:tailEnd len="med" type="arrow" w="med"/>
          </a:ln>
        </p:spPr>
      </p:cxnSp>
      <p:cxnSp>
        <p:nvCxnSpPr>
          <p:cNvPr id="136" name="Прямая со стрелкой 37"/>
          <p:cNvCxnSpPr/>
          <p:nvPr/>
        </p:nvCxnSpPr>
        <p:spPr>
          <a:xfrm flipH="1" flipV="1">
            <a:off x="4857840" y="2639520"/>
            <a:ext cx="2071800" cy="1215360"/>
          </a:xfrm>
          <a:prstGeom prst="straightConnector1">
            <a:avLst/>
          </a:prstGeom>
          <a:ln w="25560">
            <a:solidFill>
              <a:srgbClr val="2e62c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Прямая со стрелкой 40"/>
          <p:cNvCxnSpPr/>
          <p:nvPr/>
        </p:nvCxnSpPr>
        <p:spPr>
          <a:xfrm flipH="1" flipV="1">
            <a:off x="5357520" y="2639520"/>
            <a:ext cx="2572560" cy="1215360"/>
          </a:xfrm>
          <a:prstGeom prst="straightConnector1">
            <a:avLst/>
          </a:prstGeom>
          <a:ln w="25560">
            <a:solidFill>
              <a:srgbClr val="2e62c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8" name="Прямая со стрелкой 43"/>
          <p:cNvCxnSpPr/>
          <p:nvPr/>
        </p:nvCxnSpPr>
        <p:spPr>
          <a:xfrm flipH="1">
            <a:off x="3499560" y="2639880"/>
            <a:ext cx="2644200" cy="1215360"/>
          </a:xfrm>
          <a:prstGeom prst="straightConnector1">
            <a:avLst/>
          </a:prstGeom>
          <a:ln w="25560">
            <a:solidFill>
              <a:srgbClr val="34489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9" name="Прямая со стрелкой 46"/>
          <p:cNvCxnSpPr/>
          <p:nvPr/>
        </p:nvCxnSpPr>
        <p:spPr>
          <a:xfrm flipH="1">
            <a:off x="4357440" y="2639880"/>
            <a:ext cx="2286720" cy="1215360"/>
          </a:xfrm>
          <a:prstGeom prst="straightConnector1">
            <a:avLst/>
          </a:prstGeom>
          <a:ln w="25560">
            <a:solidFill>
              <a:srgbClr val="34489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0" name="Прямая со стрелкой 49"/>
          <p:cNvCxnSpPr/>
          <p:nvPr/>
        </p:nvCxnSpPr>
        <p:spPr>
          <a:xfrm flipH="1">
            <a:off x="5571720" y="2639880"/>
            <a:ext cx="1215360" cy="1286640"/>
          </a:xfrm>
          <a:prstGeom prst="straightConnector1">
            <a:avLst/>
          </a:prstGeom>
          <a:ln w="25560">
            <a:solidFill>
              <a:srgbClr val="34489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" name="Прямая со стрелкой 52"/>
          <p:cNvCxnSpPr/>
          <p:nvPr/>
        </p:nvCxnSpPr>
        <p:spPr>
          <a:xfrm>
            <a:off x="6999840" y="2639880"/>
            <a:ext cx="143640" cy="1215360"/>
          </a:xfrm>
          <a:prstGeom prst="straightConnector1">
            <a:avLst/>
          </a:prstGeom>
          <a:ln w="25560">
            <a:solidFill>
              <a:srgbClr val="34489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2" name="Прямая со стрелкой 55"/>
          <p:cNvCxnSpPr/>
          <p:nvPr/>
        </p:nvCxnSpPr>
        <p:spPr>
          <a:xfrm>
            <a:off x="7285680" y="2639880"/>
            <a:ext cx="929160" cy="1215360"/>
          </a:xfrm>
          <a:prstGeom prst="straightConnector1">
            <a:avLst/>
          </a:prstGeom>
          <a:ln w="25560">
            <a:solidFill>
              <a:srgbClr val="344893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43" name="Прямоугольник 66"/>
          <p:cNvGrpSpPr/>
          <p:nvPr/>
        </p:nvGrpSpPr>
        <p:grpSpPr>
          <a:xfrm>
            <a:off x="4065480" y="5479920"/>
            <a:ext cx="1616040" cy="738360"/>
            <a:chOff x="4065480" y="5479920"/>
            <a:chExt cx="1616040" cy="738360"/>
          </a:xfrm>
        </p:grpSpPr>
        <p:pic>
          <p:nvPicPr>
            <p:cNvPr id="144" name="Прямоугольник 66" descr=""/>
            <p:cNvPicPr/>
            <p:nvPr/>
          </p:nvPicPr>
          <p:blipFill>
            <a:blip r:embed="rId3"/>
            <a:stretch/>
          </p:blipFill>
          <p:spPr>
            <a:xfrm>
              <a:off x="4065480" y="5479920"/>
              <a:ext cx="161604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143240" y="5575320"/>
              <a:ext cx="14288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3366"/>
                  </a:solidFill>
                  <a:latin typeface="Arial"/>
                </a:rPr>
                <a:t>Районный центр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6" name="Прямоугольник 67"/>
          <p:cNvGrpSpPr/>
          <p:nvPr/>
        </p:nvGrpSpPr>
        <p:grpSpPr>
          <a:xfrm>
            <a:off x="5638680" y="5479920"/>
            <a:ext cx="1616040" cy="738360"/>
            <a:chOff x="5638680" y="5479920"/>
            <a:chExt cx="1616040" cy="738360"/>
          </a:xfrm>
        </p:grpSpPr>
        <p:pic>
          <p:nvPicPr>
            <p:cNvPr id="147" name="Прямоугольник 67" descr=""/>
            <p:cNvPicPr/>
            <p:nvPr/>
          </p:nvPicPr>
          <p:blipFill>
            <a:blip r:embed="rId4"/>
            <a:stretch/>
          </p:blipFill>
          <p:spPr>
            <a:xfrm>
              <a:off x="5638680" y="5479920"/>
              <a:ext cx="161604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715000" y="5575320"/>
              <a:ext cx="14288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3366"/>
                  </a:solidFill>
                  <a:latin typeface="Arial"/>
                </a:rPr>
                <a:t>Районный центр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9" name="Прямоугольник 68"/>
          <p:cNvGrpSpPr/>
          <p:nvPr/>
        </p:nvGrpSpPr>
        <p:grpSpPr>
          <a:xfrm>
            <a:off x="7424640" y="5479920"/>
            <a:ext cx="1616040" cy="738360"/>
            <a:chOff x="7424640" y="5479920"/>
            <a:chExt cx="1616040" cy="738360"/>
          </a:xfrm>
        </p:grpSpPr>
        <p:pic>
          <p:nvPicPr>
            <p:cNvPr id="150" name="Прямоугольник 68" descr=""/>
            <p:cNvPicPr/>
            <p:nvPr/>
          </p:nvPicPr>
          <p:blipFill>
            <a:blip r:embed="rId5"/>
            <a:stretch/>
          </p:blipFill>
          <p:spPr>
            <a:xfrm>
              <a:off x="7424640" y="5479920"/>
              <a:ext cx="161604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500960" y="5575320"/>
              <a:ext cx="14288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3366"/>
                  </a:solidFill>
                  <a:latin typeface="Arial"/>
                </a:rPr>
                <a:t>Районный центр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2" name="TextBox 69"/>
          <p:cNvSpPr/>
          <p:nvPr/>
        </p:nvSpPr>
        <p:spPr>
          <a:xfrm>
            <a:off x="7000920" y="550080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onstantia"/>
              </a:rPr>
              <a:t>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53" name="Прямая со стрелкой 81"/>
          <p:cNvCxnSpPr/>
          <p:nvPr/>
        </p:nvCxnSpPr>
        <p:spPr>
          <a:xfrm flipV="1">
            <a:off x="3286080" y="4425480"/>
            <a:ext cx="643320" cy="1075680"/>
          </a:xfrm>
          <a:prstGeom prst="straightConnector1">
            <a:avLst/>
          </a:prstGeom>
          <a:ln w="25560">
            <a:solidFill>
              <a:srgbClr val="2e62c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4" name="Прямая со стрелкой 83"/>
          <p:cNvCxnSpPr/>
          <p:nvPr/>
        </p:nvCxnSpPr>
        <p:spPr>
          <a:xfrm flipH="1" flipV="1">
            <a:off x="4143240" y="4425480"/>
            <a:ext cx="643320" cy="1146960"/>
          </a:xfrm>
          <a:prstGeom prst="straightConnector1">
            <a:avLst/>
          </a:prstGeom>
          <a:ln w="25560">
            <a:solidFill>
              <a:srgbClr val="2e62c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5" name="Прямая со стрелкой 88"/>
          <p:cNvCxnSpPr/>
          <p:nvPr/>
        </p:nvCxnSpPr>
        <p:spPr>
          <a:xfrm flipH="1" flipV="1">
            <a:off x="4285800" y="4425480"/>
            <a:ext cx="1858320" cy="1146960"/>
          </a:xfrm>
          <a:prstGeom prst="straightConnector1">
            <a:avLst/>
          </a:prstGeom>
          <a:ln w="25560">
            <a:solidFill>
              <a:srgbClr val="2e62c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6" name="Прямая со стрелкой 91"/>
          <p:cNvCxnSpPr/>
          <p:nvPr/>
        </p:nvCxnSpPr>
        <p:spPr>
          <a:xfrm flipH="1" flipV="1">
            <a:off x="8214480" y="4425480"/>
            <a:ext cx="1080" cy="1075680"/>
          </a:xfrm>
          <a:prstGeom prst="straightConnector1">
            <a:avLst/>
          </a:prstGeom>
          <a:ln w="25560">
            <a:solidFill>
              <a:srgbClr val="2e62cb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Заголовок 1"/>
          <p:cNvSpPr/>
          <p:nvPr/>
        </p:nvSpPr>
        <p:spPr>
          <a:xfrm>
            <a:off x="128520" y="1233360"/>
            <a:ext cx="630072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00"/>
                </a:solidFill>
                <a:latin typeface="Arial"/>
              </a:rPr>
              <a:t>СТРУКТУРА АС МиСП-2011 </a:t>
            </a:r>
            <a:endParaRPr b="0" lang="en-US" sz="3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Схема 5" descr=""/>
          <p:cNvPicPr/>
          <p:nvPr/>
        </p:nvPicPr>
        <p:blipFill>
          <a:blip r:embed="rId1"/>
          <a:stretch/>
        </p:blipFill>
        <p:spPr>
          <a:xfrm>
            <a:off x="268200" y="1639800"/>
            <a:ext cx="8753400" cy="50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3840" y="1285920"/>
            <a:ext cx="7115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СОСТАВ АС МИСП-2011  РУ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425000" cy="42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3840" y="1285920"/>
            <a:ext cx="7115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СОСТАВ АС МИСП-2011  ФУ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5520" y="1928880"/>
            <a:ext cx="85773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2" descr=""/>
          <p:cNvPicPr/>
          <p:nvPr/>
        </p:nvPicPr>
        <p:blipFill>
          <a:blip r:embed="rId1"/>
          <a:stretch/>
        </p:blipFill>
        <p:spPr>
          <a:xfrm>
            <a:off x="4843440" y="4786200"/>
            <a:ext cx="1443240" cy="13384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920" y="13572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ФОРМИРОВАНИЕ СПИСКОВ ОБЪЕКТОВ СПЛОШНОГО НАБЛЮДЕНИЯ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5" name="Прямоугольник 10"/>
          <p:cNvSpPr/>
          <p:nvPr/>
        </p:nvSpPr>
        <p:spPr>
          <a:xfrm>
            <a:off x="5500800" y="1785960"/>
            <a:ext cx="3429000" cy="549360"/>
          </a:xfrm>
          <a:prstGeom prst="rect">
            <a:avLst/>
          </a:prstGeom>
          <a:gradFill rotWithShape="0">
            <a:gsLst>
              <a:gs pos="0">
                <a:srgbClr val="9bfd9b"/>
              </a:gs>
              <a:gs pos="100000">
                <a:srgbClr val="e4ffe4"/>
              </a:gs>
            </a:gsLst>
            <a:lin ang="16200000"/>
          </a:gradFill>
          <a:ln w="9360">
            <a:solidFill>
              <a:srgbClr val="00b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гиональный уровен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Picture 5" descr="C:\Documents and Settings\VBorodko\Local Settings\Temporary Internet Files\Content.IE5\984NL6TR\MCj03000530000[1].wmf"/>
          <p:cNvPicPr/>
          <p:nvPr/>
        </p:nvPicPr>
        <p:blipFill>
          <a:blip r:embed="rId2"/>
          <a:stretch/>
        </p:blipFill>
        <p:spPr>
          <a:xfrm>
            <a:off x="128520" y="2228760"/>
            <a:ext cx="1443240" cy="843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C:\Program Files\Microsoft Office\MEDIA\CAGCAT10\j0285750.wmf"/>
          <p:cNvPicPr/>
          <p:nvPr/>
        </p:nvPicPr>
        <p:blipFill>
          <a:blip r:embed="rId3"/>
          <a:stretch/>
        </p:blipFill>
        <p:spPr>
          <a:xfrm>
            <a:off x="3357720" y="2313000"/>
            <a:ext cx="1823760" cy="1120680"/>
          </a:xfrm>
          <a:prstGeom prst="rect">
            <a:avLst/>
          </a:prstGeom>
          <a:ln w="0">
            <a:noFill/>
          </a:ln>
        </p:spPr>
      </p:pic>
      <p:sp>
        <p:nvSpPr>
          <p:cNvPr id="168" name="Стрелка вправо 14"/>
          <p:cNvSpPr/>
          <p:nvPr/>
        </p:nvSpPr>
        <p:spPr>
          <a:xfrm rot="412200">
            <a:off x="1779120" y="2509920"/>
            <a:ext cx="1373400" cy="48420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5786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0" y="307656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анные Статрегистра Росстата по М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3143160" y="3433680"/>
            <a:ext cx="23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ервоначальное наполнение списка респондент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0" y="478620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анные Статрегистра Росстата по И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Picture 5" descr="C:\Documents and Settings\VBorodko\Local Settings\Temporary Internet Files\Content.IE5\984NL6TR\MCj03000530000[1].wmf"/>
          <p:cNvPicPr/>
          <p:nvPr/>
        </p:nvPicPr>
        <p:blipFill>
          <a:blip r:embed="rId4"/>
          <a:stretch/>
        </p:blipFill>
        <p:spPr>
          <a:xfrm>
            <a:off x="285840" y="4000680"/>
            <a:ext cx="1442880" cy="84276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3"/>
          <p:cNvSpPr/>
          <p:nvPr/>
        </p:nvSpPr>
        <p:spPr>
          <a:xfrm>
            <a:off x="1500120" y="571968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анные о получателях господдерж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5" descr="C:\Documents and Settings\VBorodko\Local Settings\Temporary Internet Files\Content.IE5\984NL6TR\MCj03000530000[1].wmf"/>
          <p:cNvPicPr/>
          <p:nvPr/>
        </p:nvPicPr>
        <p:blipFill>
          <a:blip r:embed="rId5"/>
          <a:stretch/>
        </p:blipFill>
        <p:spPr>
          <a:xfrm>
            <a:off x="1785960" y="4857840"/>
            <a:ext cx="1442880" cy="842760"/>
          </a:xfrm>
          <a:prstGeom prst="rect">
            <a:avLst/>
          </a:prstGeom>
          <a:ln w="0">
            <a:noFill/>
          </a:ln>
        </p:spPr>
      </p:pic>
      <p:sp>
        <p:nvSpPr>
          <p:cNvPr id="175" name="Стрелка вправо 21"/>
          <p:cNvSpPr/>
          <p:nvPr/>
        </p:nvSpPr>
        <p:spPr>
          <a:xfrm rot="20083200">
            <a:off x="1738440" y="3522240"/>
            <a:ext cx="1652400" cy="484200"/>
          </a:xfrm>
          <a:prstGeom prst="rightArrow">
            <a:avLst>
              <a:gd name="adj1" fmla="val 50000"/>
              <a:gd name="adj2" fmla="val 49989"/>
            </a:avLst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7718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Стрелка вправо 22"/>
          <p:cNvSpPr/>
          <p:nvPr/>
        </p:nvSpPr>
        <p:spPr>
          <a:xfrm rot="18148200">
            <a:off x="2385000" y="4137480"/>
            <a:ext cx="952200" cy="484200"/>
          </a:xfrm>
          <a:prstGeom prst="rightArrow">
            <a:avLst>
              <a:gd name="adj1" fmla="val 50000"/>
              <a:gd name="adj2" fmla="val 49983"/>
            </a:avLst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965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Picture 13" descr="C:\Documents and Settings\VBorodko\Local Settings\Temporary Internet Files\Content.IE5\FL3PFERQ\MC900287375[1].wmf"/>
          <p:cNvPicPr/>
          <p:nvPr/>
        </p:nvPicPr>
        <p:blipFill>
          <a:blip r:embed="rId6"/>
          <a:stretch/>
        </p:blipFill>
        <p:spPr>
          <a:xfrm>
            <a:off x="7072200" y="2500200"/>
            <a:ext cx="1596960" cy="12859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4"/>
          <p:cNvSpPr/>
          <p:nvPr/>
        </p:nvSpPr>
        <p:spPr>
          <a:xfrm>
            <a:off x="6572160" y="3929040"/>
            <a:ext cx="235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точнение адресов, актуальности, принадлежности к малым предприятия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Стрелка вправо 36"/>
          <p:cNvSpPr/>
          <p:nvPr/>
        </p:nvSpPr>
        <p:spPr>
          <a:xfrm rot="10800000">
            <a:off x="5214960" y="2714400"/>
            <a:ext cx="1643040" cy="484200"/>
          </a:xfrm>
          <a:prstGeom prst="right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54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Стрелка вправо 38"/>
          <p:cNvSpPr/>
          <p:nvPr/>
        </p:nvSpPr>
        <p:spPr>
          <a:xfrm rot="3664800">
            <a:off x="4028040" y="4521960"/>
            <a:ext cx="987480" cy="484200"/>
          </a:xfrm>
          <a:prstGeom prst="right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2534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extBox 17"/>
          <p:cNvSpPr/>
          <p:nvPr/>
        </p:nvSpPr>
        <p:spPr>
          <a:xfrm>
            <a:off x="4214880" y="593244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Формирование списков респондентов  по ОКАТО и ОКВЭ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Стрелка вправо 41"/>
          <p:cNvSpPr/>
          <p:nvPr/>
        </p:nvSpPr>
        <p:spPr>
          <a:xfrm rot="19035600">
            <a:off x="6283440" y="4893840"/>
            <a:ext cx="718920" cy="484200"/>
          </a:xfrm>
          <a:prstGeom prst="righ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8762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ГЛАВНОЕ МЕНЮ РЕГИОНАЛЬНОГО УРОВНЯ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804960" y="2033640"/>
            <a:ext cx="7388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7:22:55Z</dcterms:created>
  <dc:creator>MUsvayskaya</dc:creator>
  <dc:description/>
  <dc:language>en-US</dc:language>
  <cp:lastModifiedBy>VB</cp:lastModifiedBy>
  <dcterms:modified xsi:type="dcterms:W3CDTF">2010-11-01T15:33:50Z</dcterms:modified>
  <cp:revision>107</cp:revision>
  <dc:subject/>
  <dc:title>Slide 1</dc:title>
</cp:coreProperties>
</file>