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8E1-8E39-4823-A3F2-A9279B1C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02A-7F63-467D-97C9-4786A97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05C-5303-47BB-BA26-7B3E6291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360-0BE2-44D1-A306-C781BFCC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0DCB-DD7A-4E26-A054-8C389AA7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E34C-CB09-4AF5-A939-98E43A8A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1014-EE52-4F8A-AF77-2BEE352C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2BEF-4612-47D7-A7BD-1F01B236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8DDB-3B7F-42B7-BD09-08C41C31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69B5-B037-452B-828C-D3A69D6A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45F3-1949-4BBE-8155-FBCCADA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82C-1C52-4EF3-8972-8EAE3834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F661-9C5A-4C9B-A409-559CE220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303E-5B9D-4FA1-8562-77B5121C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BB59-B53A-4273-8EF5-D5BC8CA9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5513-DF25-47D7-B1EA-8A4CCCAB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A056-17AB-4E1F-B4B3-EF4C11B8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2D4-7488-47D4-8DDE-A78182E8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FA8-79E0-45D5-ACA7-923741F7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460-812B-4535-8EF4-ACA2339C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F9B-4F21-4812-9DD1-A91C9097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81A-310E-4C0C-AE3B-522A6FA5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10C-D0FE-4AA4-B3F0-FB2344D0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923-CE99-4D11-A12D-31B89BE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C0BB-1E6F-4AAF-B670-B42483232B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8671-FCD2-434B-A1A4-487388107D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Bookman Old Style"/>
              </a:rPr>
              <a:t>Формирование информационной основы для проведения сплошного наблюдения субъектов малого и среднего предпринимательств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85840" y="53337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убина Е.В. – заместитель начальника Управления организации статистического наблюдения и контро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Bookman Old Style"/>
              </a:rPr>
              <a:t>Спасибо за внимание!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304"/>
                </a:solidFill>
                <a:latin typeface="Bookman Old Style"/>
              </a:rPr>
              <a:t>Объекты сплошного наблюдения субъектов малого и среднего предпринимательства определены Федеральным законом от 24 июля 2007 г. № 209-ФЗ «О развитии малого и среднего предпринимательства в Российской Федерации»: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мерческие организации и потребительские кооперативы, внесенные в Единый государственный реестр юридических лиц (ЕГРЮЛ), отвечающие критериям субъектов малого и среднего предпринимательства в соответствии с Федеральным законом от 24 июля 2007 г. № 209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ческие лица, осуществляющие предпринимательскую деятельность без образования юридического лица, прошедшие государственную регистрацию в качестве индивидуальных предпринимателей и внесенные в Единый государственный реестр индивидуальных предпринимателей (ЕГРЮЛ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естьянские (фермерские) хозяйства: созданные в соответствии с законом РСФСР от 22 ноября 1990 г. № 348-1 «О крестьянском (фермерском) хозяйстве»; главы крестьянских (фермерских) хозяйств, прошедшие государственную регистрацию в качестве индивидуальных предпринимате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Bookman Old Style"/>
              </a:rPr>
              <a:t>Информационная основа формирования совокупности хозяйствующих субъектов, подлежащих сплошному наблюдению – Статистический регистр Росстата (Статрегистр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266688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Д «Юри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лиц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1295280"/>
            <a:ext cx="2819520" cy="1295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Д «Индивиду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едпринимател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1295280"/>
            <a:ext cx="2743200" cy="12956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Д  «Генераль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вокупность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татистиче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блюдения» (БД Г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276720"/>
            <a:ext cx="4267080" cy="1447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ия о государственной регистр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юридических лиц и индивидуаль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ринимателей, предоставляемые Росстат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НС России из ЕГРЮЛ и ЕГРИП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оответствии с постановлени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тельства РФ от 19 июня 2002г. № 4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2819520"/>
            <a:ext cx="2743200" cy="838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еделение субъектов мал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реднего предпринима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809880"/>
            <a:ext cx="4038480" cy="8384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62520" y="3809880"/>
            <a:ext cx="38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ень юридических лиц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ых предпринимателей, подлежащих сплошному наблюде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280" y="5410080"/>
            <a:ext cx="1295640" cy="722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47640" y="5300640"/>
            <a:ext cx="4038840" cy="1295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5257800"/>
            <a:ext cx="4105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Юридические лица, отнесенные к субъект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лого и среднего предпринимательства п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дениям об учредителях, данным статистическ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бухгалтерской отчетности и на основании друг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дминистративных источников, юридические лица, категория которых не определе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5181480"/>
            <a:ext cx="1524240" cy="12956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дивиду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дпринимател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еющие ОГРНИ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51460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438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97" idx="4"/>
            <a:endCxn id="99" idx="0"/>
          </p:cNvCxnSpPr>
          <p:nvPr/>
        </p:nvCxnSpPr>
        <p:spPr>
          <a:xfrm>
            <a:off x="7467120" y="2590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7467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65300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243828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467480" y="5257800"/>
            <a:ext cx="1479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21304"/>
                </a:solidFill>
                <a:latin typeface="Bookman Old Style"/>
              </a:rPr>
              <a:t>Определение в Статрегистре совокупности субъектов малого и среднего предпринимательства для проведения федеральных статистических наблюдений</a:t>
            </a:r>
            <a:endParaRPr b="0" lang="en-US" sz="1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447920"/>
            <a:ext cx="8458200" cy="9903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итерии отнес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едприятий – юридических лиц к субъектам мал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среднего предпринимательства, установленные Федеральным зако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24 июля 2007г. № 209-Ф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819520"/>
            <a:ext cx="1905120" cy="16002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руктур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авного капит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2819520"/>
            <a:ext cx="1905120" cy="16761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няя числ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2819520"/>
            <a:ext cx="3810240" cy="16761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6880" y="3124080"/>
            <a:ext cx="3373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ельные значения выручк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ановленные постановлени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тельства РФ от 22 июля 2008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56 (оборо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5029200"/>
            <a:ext cx="6095880" cy="1371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нные статистической и бухгалтерской отчетности, имеющие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органах государственной статистик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ия административных источников: налоговые орган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бюджетные фонды 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029200"/>
            <a:ext cx="1905120" cy="1371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истр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438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2438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2438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4956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44956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4197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Bookman Old Style"/>
              </a:rPr>
              <a:t>Проблемы, возникающие при определении субъектов малого и среднего предпринимательства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в органах государственной статистики данных о средней численности работников и выручке отдельных предприятий, обусловленно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едприятие находится на упрощенной системе налогообложения и по законодательству не обязано предоставлять бухгалтерскую отчетн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едприятие не ведет экономической деятельности, но не прошло процедуру официальной ликвидации и, как следствие, не предоставляет бухгалтерскую отчет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должного межведомственного взаимодействия по получению и использованию данных административных источников (налоговых органов, фондов социального страхования, пенсионного фонда и др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304"/>
                </a:solidFill>
                <a:latin typeface="Bookman Old Style"/>
              </a:rPr>
              <a:t>Дополнительные источники информации для уточнения в Статрегистре совокупности субъектов малого и среднего предпринимательства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371600"/>
            <a:ext cx="274320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ог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514600"/>
            <a:ext cx="274320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ы социаль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х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429000"/>
            <a:ext cx="274320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ы пенсион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343400"/>
            <a:ext cx="274320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ы медицинск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х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5257800"/>
            <a:ext cx="2743200" cy="1295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ы исполните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асти субъектов РФ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ы мест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1413000"/>
            <a:ext cx="4753080" cy="1101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оставлении (не предоставлении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оговой отчетности (приказы Росстата и ФН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и от 8.01.2008 № 5/ММ-3-11/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06.2010 № 213/ММВ-7-1/27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2743200"/>
            <a:ext cx="4038480" cy="11430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о средней числен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ников организаций (наем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ников у индивидуаль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принимателе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4343400"/>
            <a:ext cx="4092480" cy="598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о постановке на у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небюджетных фонд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5334120"/>
            <a:ext cx="4038480" cy="9903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из реестров субъектов мал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среднего предпринимательства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ателей поддерж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1523880"/>
            <a:ext cx="116352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19051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19051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8954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6668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26668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3048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124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5053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5053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4419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8098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8098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7242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048120" y="58672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Bookman Old Style"/>
              </a:rPr>
              <a:t>Совокупность субъектов малого и среднего предпринимательства, подлежащих сплошному наблюдению, формируемая на основе Статрегистра, включает: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идические лица, отнесенные к субъектам малого и среднего предпринимательства и категория которых не определена, представлявшие налоговую отчетность в течение 2009г. и в течение семи месяцев 2010г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идические лица, отнесенные к субъектам малого и среднего предпринимательства и категория которых не определена, не представлявшие налоговую отчетность, но представлявшие в 2009г. статистическую или бухгалтерскую отчет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ивидуальные предприниматели, имеющие ОГРН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304"/>
                </a:solidFill>
                <a:latin typeface="Bookman Old Style"/>
              </a:rPr>
              <a:t>Процедура формирования перечней субъектов малого и среднего предпринимательства (юридических лиц) службами Статрегистра в территориальных органах Росстата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523880"/>
            <a:ext cx="2286000" cy="19814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туализация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нным перечн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логоплательщиков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ставлявш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логовую отчетнос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2009г. и в теч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и месяцев 2010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676520"/>
            <a:ext cx="2361960" cy="2057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БД Г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текущ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остоя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а 1.11.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1676520"/>
            <a:ext cx="2362320" cy="2057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грузка из БД Г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ы 1-предприятие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Д БОО за 2009г. 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ней числен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ников, выручк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оборот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657600"/>
            <a:ext cx="2971800" cy="3048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ключение объекто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ехавшие в другие субъекты РФ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банкрот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в стадии ликвид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не отчитавшиеся в течение 2 ле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представившие налоговую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четность и зарегистрирова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нее 1.07.2002г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крестьянские (фермерск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зяйства, зарегистриров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нее 1.07.2002г., не отчитавшие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ечение 2 лет и не представивш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логовую отчет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343400"/>
            <a:ext cx="2362320" cy="2209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ень субъек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лого и средне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ринимательств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формирован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месту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й, подлежа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лошному наблюде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267080"/>
            <a:ext cx="2590560" cy="22860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туализация 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е-феврале 2011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основе БД ГС на 31.12.2010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части внов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регистрированны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организованных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квидированных 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ябре-декабре 2010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юридических ли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27432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27432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37339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54100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943240" y="5410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304"/>
                </a:solidFill>
                <a:latin typeface="Bookman Old Style"/>
              </a:rPr>
              <a:t>Процедура формирования перечней индивидуальных предпринимателей, подлежащих сплошному обследованию службами Статрегистра в территориальных органах Росстата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1752480"/>
            <a:ext cx="2743200" cy="2362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БД «Индивиду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едпринимател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татреги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 состоя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а 1.11.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981080"/>
            <a:ext cx="2666880" cy="1676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туализация по данн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ня налогоплательщ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ставивших налогову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тность в 2009г. и 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чение семи месяцев 2010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4495680"/>
            <a:ext cx="3352680" cy="19051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ключение информации о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ых предпринимател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уществляющих деятельность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нном субъекте РФ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 зарегистрированным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угих субъектах Р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952880"/>
            <a:ext cx="3048120" cy="12956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ень индивидуаль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ринимателей, име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ГРНИП, подлежа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лошному наблюде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1905120"/>
            <a:ext cx="2438280" cy="1904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туализация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нваре-феврале 2011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части внов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регистрированных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квидированных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ябре-декабре 2010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ъек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28954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5627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114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5334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38098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2:01:18Z</dcterms:created>
  <dc:creator>User</dc:creator>
  <dc:description/>
  <dc:language>en-US</dc:language>
  <cp:lastModifiedBy>Zarubina</cp:lastModifiedBy>
  <dcterms:modified xsi:type="dcterms:W3CDTF">2010-11-01T06:05:04Z</dcterms:modified>
  <cp:revision>114</cp:revision>
  <dc:subject/>
  <dc:title>Формирование информационной основы для проведения сплошного наблюдения субъектов малого и среднего предпринимательства</dc:title>
</cp:coreProperties>
</file>