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56BC-AA13-405A-85C9-3CF6F0022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 основных результатах               Всероссийской сельскохозяйственной переписи 2006 г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139-B030-4539-AD6F-5807E955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84D-48E8-4E00-899B-08A3B54A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C34-AC63-4299-AE44-B3468AE5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53E-E762-435A-8276-FAA6FDFC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E54-8384-4076-B1B1-D292A966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51A-E47E-4FA8-92D0-2E6EE300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F2A-02BB-4C2D-B218-1E265C68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5CB-3F79-4734-9897-4BFFDA89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379-8544-4289-B7C3-54DE5628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04B-F315-41E9-A4A8-E9138C1F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335-759B-48D9-A3E4-C356AE16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268-0DFD-44B4-AE58-BD9F57AE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3DF7-E5B4-46BD-866F-C09F941F6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95640" y="1052640"/>
            <a:ext cx="612144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 методологических аспектах проведения сплошного наблюдения субъектов малого и среднего предпринимательства, осуществляющих сельскохозяйствен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ятельнос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меститель начальника Управления статис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ельского хозяйства и окружающей природ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.Э. Обычай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35280" y="1125360"/>
            <a:ext cx="712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47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3640" y="130356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рновые и зернобобовые культуры - все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вощи открытого грунта – все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вощи закрытого грунта - все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мечковые пл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точковые плод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ех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трусовые плод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бтропические плод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г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т и птица на убой в живом весе – вс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локо – сырое всех видов живот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ерсть - все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35280" y="1125360"/>
            <a:ext cx="712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47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1213560"/>
            <a:ext cx="69120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рновые и зернобобовые культуры –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ом числе по отдельным видам зерновых и зернобобовых культ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пшеница, рожь, тритикале, ячмень, овес, кукуруза, просо, сорго, гречиха, рис, зернобобовые - вс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35280" y="1125360"/>
            <a:ext cx="712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47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1185480"/>
            <a:ext cx="6912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т и птица на убой в живом весе –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ом числе по видам сельскохозяйственных живо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крупный рогатый скот, свиньи, овцы и козы, птица, кролики, лошади, верблюды,  ол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35280" y="1125360"/>
            <a:ext cx="712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47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763640" y="1537920"/>
            <a:ext cx="684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68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905760"/>
            <a:ext cx="68421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нкт 2 статьи 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Порядок предоставления земельных участков из земель сельскохозяйственного назначения, находящихся в государственной или муниципальной собственности, для создания фермерского хозяйства и осуществления его деятельности» изложить в ред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2. К заявлению должны быть приложе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соглашение, заключенное между членами фермерского хозяйства в соответствии со статьей 4 настоящего Федерального зак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выписка из единого государственного реестра юридических лиц или  выписка из единого государственного реестра индивидуальных предпринимателей.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35280" y="1125360"/>
            <a:ext cx="712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47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686880"/>
            <a:ext cx="6912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364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692280"/>
            <a:ext cx="6840360" cy="45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лошного об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1557360"/>
            <a:ext cx="6481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федеральных информационных ресурсов о состоянии субъектов малого и среднего предпринимательства в сельском хозяй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данных  по муниципальным образовани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чение детальных характеристик субъектов малого и среднего предпринимательства в сельском хозяй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ктуализация генеральной совокупности объектов для организации выборочных обслед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63640" y="115920"/>
            <a:ext cx="73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И ХОЗЯЙСТВ И ИХ ОСНОВНЫЕ ХАРАКТЕРИС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124000" y="549360"/>
          <a:ext cx="6697800" cy="5743440"/>
        </p:xfrm>
        <a:graphic>
          <a:graphicData uri="http://schemas.openxmlformats.org/drawingml/2006/table">
            <a:tbl>
              <a:tblPr/>
              <a:tblGrid>
                <a:gridCol w="2341800"/>
                <a:gridCol w="965160"/>
                <a:gridCol w="1130040"/>
                <a:gridCol w="1052640"/>
                <a:gridCol w="120816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 1 июля 2006 г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хозяйств – всего, тыс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реднем на одну организацию (хозяйств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аботников,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посевная площадь, 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оловье крупного  рогатого скота, гол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хозяйственные организации -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e7fee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пные и средние сельскохозяйственные организ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ые сельскохозяйственные предприя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ские (фермерские) хозяйства и индивидуальные предприниматели –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ьянские (фермерские) хозяй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ые предпринимате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мерческие объединения граждан –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довод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ородн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овод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ч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 подсобные и другие индивидуальные хозяйства граждан –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9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личные подсобные хозяй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35280" y="1125360"/>
            <a:ext cx="7129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рестьянские (фермерские)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Юридические 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а №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П-сп «Сведения  об основных показателях деятельности малого предприятия за 2010 год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Физические 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1-предприниматель «Сведения о деятельности индивидуального предпринимателя  за 2010 год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47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35280" y="112536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нные об объемах сельскохозяйственной продукции, произведенной юридическим или физическим лицом в 2010 году в натуральном выра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112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476280"/>
            <a:ext cx="69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генеральной совокупности сельхозпроизв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0360" y="3357720"/>
            <a:ext cx="2286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148428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грорегистр сельхозпроизводителей регио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276640"/>
            <a:ext cx="2743200" cy="91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неральная совокупность объектов сельскохозяйственной переписи для организации систем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ых наблюдений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в межпереписной пери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148428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за данных показателей (БДП ВСХП 2006 год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3500280"/>
            <a:ext cx="10080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неральная совокупность № 1 «Крупные и средние сельскохозя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венные организации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3789360"/>
            <a:ext cx="1297080" cy="13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неральная совокупность № 3 «Крестьянски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фермерские) хозяйства 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дивидуальные предприниматели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3716280"/>
            <a:ext cx="12477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неральная совокупность  № 4 «Садоводческие, огороднические и дачные некоммерческие объединения граждан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720" y="3284640"/>
            <a:ext cx="129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неральная совокупность № 6 «Личные подсобные и другие индивидуальные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зяйства граждан городских поселений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40000" y="5445000"/>
            <a:ext cx="12952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неральная совокупность № 2 «Малые сельскохозяйствен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ные предприятия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5516640"/>
            <a:ext cx="177948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неральная совокупность № 5 «Личные подсобные и другие индивидуальные хозяйства граждан сельских поселений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2852640"/>
            <a:ext cx="343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40360" y="1989000"/>
            <a:ext cx="342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03640" y="1989000"/>
            <a:ext cx="343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203640" y="2708280"/>
            <a:ext cx="9144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140000" y="3357720"/>
            <a:ext cx="360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3357720"/>
            <a:ext cx="0" cy="21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3716280"/>
            <a:ext cx="0" cy="168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492360" y="3357720"/>
            <a:ext cx="57168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7160" y="9889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1125360"/>
            <a:ext cx="712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47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834480"/>
            <a:ext cx="6912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и сведений для актуализации генеральной совокуп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тистический регистр хозяйствующих субъектов (Статрегистр Росстат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ы федерального статистического наблюдения за сельским хозяйст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№№ 4-СХ, 24-СХ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периодические сплошные и выборочные обследования малых предприят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835280" y="1125360"/>
            <a:ext cx="712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асть крестьянских (фермерских) хозяйств, фактически получивших земельные участки для создания и осуществления деятельности крестьянского (фермерского) хозяйства, не прошли государственную регистрацию в установленном поряд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данным Всероссийской сельскохозяйственной переписи 2006 г. их доля составляла около 15% от общего числа крестьянских (фермерских) хозяйст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47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35280" y="1125360"/>
            <a:ext cx="712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4784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1163880"/>
            <a:ext cx="691200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ценк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дукции сельско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чтительны следующи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диницы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изводства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продукции растениевод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центнеры (за исключением семян овощных, бахчевых и кормовых культур, которые показываются в килограммах); срезанных цветов, саженцев плодовых культур и других многолетних насаждений, рассады цветочных и овощных культур – шту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оизводства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родукции животновод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кота и птицы на убой, молока – центнеры; шерсти, меда – килограммы; яиц – тысяч шт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3:54:39Z</dcterms:created>
  <dc:creator>DEMINA_L</dc:creator>
  <dc:description/>
  <dc:language>en-US</dc:language>
  <cp:lastModifiedBy>Your User Name</cp:lastModifiedBy>
  <dcterms:modified xsi:type="dcterms:W3CDTF">2010-10-31T23:26:22Z</dcterms:modified>
  <cp:revision>32</cp:revision>
  <dc:subject/>
  <dc:title>Слайд 1</dc:title>
</cp:coreProperties>
</file>